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3600450" cy="5327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C4C55-B9C7-4B4B-AFB8-23CE77BC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E3231-6879-4621-B43A-A4360100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15235-B52D-47F4-91F8-ACB3BB02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EAD19-4290-4A33-B108-9E7F715C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A6602-87CE-4C2A-8D46-1CADED74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F4A81-15A1-4AC2-9C1C-8B8CF760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92CE5-76CE-422A-AF1F-D9A0D2CC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801AA-6E61-4C85-B158-B4B82A02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12610-17BF-4C34-B797-42BAAD1A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5CE9B-720C-47DF-8C4B-C3B0006D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2D764-6F68-4ADA-836F-DFA4F7D9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E8C4C-F0B2-48AE-B749-5EADB53F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9A561-815B-46D2-8A40-F297BFC8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D7E16-57E1-4E7E-82ED-C7A2CEEC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70E96-62BB-46A9-9796-161D88E4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E44D9-EEC3-4C31-83CD-D5C9C2A8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7A38E-CADA-4168-9967-B4484269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7DAD0-E713-48D4-AB92-770E5D27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6106F-8CB8-463E-9621-BA0DA9E8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C8A97-0ED7-40BF-888B-F9C0B0E4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14611-9F6E-41B5-A646-501FF62B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01D98-49F7-4489-ADA7-3430ECC2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823E6-1899-46F1-81AC-88B30D9F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06886-F3B3-44E5-931E-05531C20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C4658-AC70-4E67-83E0-C292BA85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79C4E-171E-42E9-A821-CFC7B299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6C75F-1816-4F6C-8CAA-761DE7E0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7AC26-0726-4FFF-990D-1F47622B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5C89F-281E-4173-85B7-147D1ABB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C5CF5-409E-459E-BF2E-A0CCBBD3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DB47-CC1F-4B59-A275-15ACDA40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84A0C-A372-4201-BB2F-0FA1B1BE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D5F21-92B8-454F-80CA-C698BAED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6B919-36B3-43C4-B393-D6340F67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5B0D4-16F0-461C-A3EE-1822DC40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71BCC-FDB1-44BF-AA5E-356A413A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C7FC8-1CE7-4BBB-9B1E-CC5B4B2B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33AF0-7A5F-4487-BE32-7AF25A39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C73A1-D7F0-4012-908F-4905620C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1BB34-67A9-4573-9F7C-694605FC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D723D-962F-4A74-B9D9-424B7810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739B-D522-41E1-AC6E-005081BC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DAB1A-92C7-4B5D-9136-02B38E89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CAAD0-6E2A-4EF2-9EB3-CC58792B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41A7D-5859-46C8-8706-5EA861F2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0986E-8C7C-4832-84D1-3D4FCBA3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56F69-27E5-42F9-84BD-C4E1F2D2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EF7E-073E-4D8B-851E-4BD7FAF6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CB3-31B1-476E-8748-29E4B722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10B-AFEC-466D-9520-68DACC35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453-2737-4E6A-A126-CE5424D6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00F-E372-4B4D-B1A4-7F0F2827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81E1-0B2E-4D7F-91BA-66832509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BC9-4DB3-4102-A561-23929C01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155C-4717-4C61-8631-01613B91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2018-B221-4132-8B2D-03DAB734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4726-669D-498D-A531-87EA2858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2A49-1C31-45CF-9294-B8CAC2CC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E90A-CA82-4CCA-AA6F-97F32472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250C-9ED5-4F13-B82C-44808C4F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3CDC-6FC9-4090-B1FF-0596A482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5A35-F902-47CB-9C8D-45A9E74D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F053-66C1-4CD7-90A9-67A4405B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0086-7E12-4B39-BA79-5CADDD3D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FCAE-C2C9-4015-9569-823DC5B9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9830-B2BA-49F9-B10D-6858FBD0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D546-F91B-4AF0-B9F6-F0C010E0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458F-8B32-4122-90F9-2189CAF1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EC85-E7FB-4D70-AEE7-5619402E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9742E-053A-4FBF-ADA2-F25664C0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4A639-99CD-47B3-A818-6DDE5678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09732-FA88-4CFA-9A59-5E2CCFBD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7EA3B-9506-42A6-B47C-062E92F0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63A3C-430D-4866-88D8-314C71D8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0A82F-85E4-457F-9E24-8A50A8AE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424B8-B2A3-4B66-AB79-30462293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6A799-0FB4-40F9-9C70-0FC362FB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9E1D9-80B3-467F-993C-605390D8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B3082-2A85-482B-9A6C-BCD4427F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F2609-3813-48B1-9A9C-3E4B7DE5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A164D-2A50-4C9F-95E4-D530C623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13363-3648-4664-8F34-1C87D926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3B05F-3A88-4606-ADFF-D24084FE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E1551-6764-4EBA-A579-CDA5C45A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21983-D760-4E47-86FC-C21DC0D9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20F10-F16C-40B2-9EAB-8500D749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24B6D-B658-40B7-A070-75003A3E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CE9BE-BFEA-4458-8AAC-71E5A364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7F543-CBD4-4BD1-88C1-1060B26F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41D1F-8667-4C14-86C9-CC74CA72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C3BE1-92E6-41AD-AC53-42F243CC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FB199-5421-48DF-8887-7C5F298D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54777-0A21-4A64-9CA4-51E3E438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99063-8302-46EA-9B88-F16384E4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02D2B-4143-43F8-8136-47077B77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F8CB6-F63E-4E99-A9C4-3E38D980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4A6BE-74F0-4D63-8BB5-003BDE8D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F88DB-B8B7-41FC-BC94-36360BDA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3F855-A531-488C-9DC2-FE089FB4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8067E-1EBA-4870-98D3-8BDF6498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16881-0531-45F4-8950-7E8596F7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5D025-AD24-4415-B027-E332D510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E2BD5-D01E-4F16-82F7-6893F2B8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A56D7-36E7-4C5D-822C-4D15CDCC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66523-0C53-4C99-B647-977A0150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14986-7527-4489-A4A3-D077EE9B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02E5B-7A83-41C7-B1CA-8B84EF70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12EB4-3F05-4165-9105-EB32890A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49F1E-FBD8-4BC2-ACF5-FF37A67B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6B060-B2EA-409E-94DB-30A24C9B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FC47A-4C49-475D-A96A-FE4C7102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861E4-D3F1-404F-BAEF-53B71A4E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8AB40-0B98-4E8D-BB25-21286BD7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CA702-3823-4F2B-8637-29BACA42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EA431-C886-44FF-804A-3E79B172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4021B-8CAD-42DF-9C35-B597F5D0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B8BDC-C871-41F6-B41C-2FD2326A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64F8F-7886-4DAE-AAF1-D76790D3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CA249-4925-4F52-9017-7F1E23F1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B849F-26B2-4E48-BB98-2C449538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3B13E-B7A1-4B60-A8E3-4BFD09C9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62FC0-0E9F-4128-80F0-D973222A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80000" y="212400"/>
            <a:ext cx="323964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1FDD1-6E13-403C-AC2A-CCD66D0F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E0FDE-1121-41E4-934D-A5AA9EAF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86658-8469-46F3-B572-B8AAB267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A5EE9-DED8-4797-950C-47BE7422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80000" y="2860920"/>
            <a:ext cx="323964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D747C-6945-4079-ADFE-0D7467DF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1840320" y="124668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8000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840320" y="2860920"/>
            <a:ext cx="158076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C168A-30FC-442D-940A-209CC92E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7548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370960" y="124668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8000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127548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2370960" y="2860920"/>
            <a:ext cx="1042920" cy="14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95589-A7D1-4F2D-96EE-66D25163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E91D5-14A0-496E-922A-AF91696E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1AF27-FB7A-4B0B-A717-B61E44E7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71B31-EAA0-4937-BB0E-4877938B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04"/>
          <p:cNvSpPr/>
          <p:nvPr/>
        </p:nvSpPr>
        <p:spPr>
          <a:xfrm>
            <a:off x="0" y="36036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Line 204"/>
          <p:cNvSpPr/>
          <p:nvPr/>
        </p:nvSpPr>
        <p:spPr>
          <a:xfrm>
            <a:off x="0" y="496728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Line 204"/>
          <p:cNvSpPr/>
          <p:nvPr/>
        </p:nvSpPr>
        <p:spPr>
          <a:xfrm>
            <a:off x="360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Line 204"/>
          <p:cNvSpPr/>
          <p:nvPr/>
        </p:nvSpPr>
        <p:spPr>
          <a:xfrm>
            <a:off x="3240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正方形/長方形 15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Line 204"/>
          <p:cNvSpPr/>
          <p:nvPr/>
        </p:nvSpPr>
        <p:spPr>
          <a:xfrm>
            <a:off x="0" y="36036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Line 204"/>
          <p:cNvSpPr/>
          <p:nvPr/>
        </p:nvSpPr>
        <p:spPr>
          <a:xfrm>
            <a:off x="0" y="496728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204"/>
          <p:cNvSpPr/>
          <p:nvPr/>
        </p:nvSpPr>
        <p:spPr>
          <a:xfrm>
            <a:off x="360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Line 204"/>
          <p:cNvSpPr/>
          <p:nvPr/>
        </p:nvSpPr>
        <p:spPr>
          <a:xfrm>
            <a:off x="3240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正方形/長方形 15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AFF9BC86-B795-467E-8547-2512DCE758DB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Line 204"/>
          <p:cNvSpPr/>
          <p:nvPr/>
        </p:nvSpPr>
        <p:spPr>
          <a:xfrm>
            <a:off x="0" y="36036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Line 204"/>
          <p:cNvSpPr/>
          <p:nvPr/>
        </p:nvSpPr>
        <p:spPr>
          <a:xfrm>
            <a:off x="0" y="496728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Line 204"/>
          <p:cNvSpPr/>
          <p:nvPr/>
        </p:nvSpPr>
        <p:spPr>
          <a:xfrm>
            <a:off x="360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204"/>
          <p:cNvSpPr/>
          <p:nvPr/>
        </p:nvSpPr>
        <p:spPr>
          <a:xfrm>
            <a:off x="3240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正方形/長方形 15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76EDA0B2-54BB-4F56-99C9-F16A7B8EDC52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Line 204"/>
          <p:cNvSpPr/>
          <p:nvPr/>
        </p:nvSpPr>
        <p:spPr>
          <a:xfrm>
            <a:off x="0" y="36036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Line 204"/>
          <p:cNvSpPr/>
          <p:nvPr/>
        </p:nvSpPr>
        <p:spPr>
          <a:xfrm>
            <a:off x="0" y="496728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Line 204"/>
          <p:cNvSpPr/>
          <p:nvPr/>
        </p:nvSpPr>
        <p:spPr>
          <a:xfrm>
            <a:off x="360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Line 204"/>
          <p:cNvSpPr/>
          <p:nvPr/>
        </p:nvSpPr>
        <p:spPr>
          <a:xfrm>
            <a:off x="3240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正方形/長方形 15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8988A435-D0EC-4889-89B9-5E97871EC98C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04"/>
          <p:cNvSpPr/>
          <p:nvPr/>
        </p:nvSpPr>
        <p:spPr>
          <a:xfrm>
            <a:off x="0" y="36036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Line 204"/>
          <p:cNvSpPr/>
          <p:nvPr/>
        </p:nvSpPr>
        <p:spPr>
          <a:xfrm>
            <a:off x="0" y="496728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Line 204"/>
          <p:cNvSpPr/>
          <p:nvPr/>
        </p:nvSpPr>
        <p:spPr>
          <a:xfrm>
            <a:off x="360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04"/>
          <p:cNvSpPr/>
          <p:nvPr/>
        </p:nvSpPr>
        <p:spPr>
          <a:xfrm>
            <a:off x="3240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15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2D9A25EE-6A20-4870-866D-AF672966D20C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180000" y="212400"/>
            <a:ext cx="3239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180000" y="1246680"/>
            <a:ext cx="3239640" cy="30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4360" indent="-158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36480" indent="-1267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892080" indent="-12708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5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6" marL="1147680" indent="-127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04"/>
          <p:cNvSpPr/>
          <p:nvPr/>
        </p:nvSpPr>
        <p:spPr>
          <a:xfrm>
            <a:off x="0" y="36036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204"/>
          <p:cNvSpPr/>
          <p:nvPr/>
        </p:nvSpPr>
        <p:spPr>
          <a:xfrm>
            <a:off x="0" y="496728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204"/>
          <p:cNvSpPr/>
          <p:nvPr/>
        </p:nvSpPr>
        <p:spPr>
          <a:xfrm>
            <a:off x="360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204"/>
          <p:cNvSpPr/>
          <p:nvPr/>
        </p:nvSpPr>
        <p:spPr>
          <a:xfrm>
            <a:off x="3240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正方形/長方形 15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4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5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6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DC177A72-D3B5-4783-8B4C-74B0D0E3E36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204"/>
          <p:cNvSpPr/>
          <p:nvPr/>
        </p:nvSpPr>
        <p:spPr>
          <a:xfrm>
            <a:off x="0" y="36036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204"/>
          <p:cNvSpPr/>
          <p:nvPr/>
        </p:nvSpPr>
        <p:spPr>
          <a:xfrm>
            <a:off x="0" y="496728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204"/>
          <p:cNvSpPr/>
          <p:nvPr/>
        </p:nvSpPr>
        <p:spPr>
          <a:xfrm>
            <a:off x="360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204"/>
          <p:cNvSpPr/>
          <p:nvPr/>
        </p:nvSpPr>
        <p:spPr>
          <a:xfrm>
            <a:off x="3240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正方形/長方形 15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E5EF2EB9-4A61-410C-89A5-587F73E12C11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204"/>
          <p:cNvSpPr/>
          <p:nvPr/>
        </p:nvSpPr>
        <p:spPr>
          <a:xfrm>
            <a:off x="0" y="36036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204"/>
          <p:cNvSpPr/>
          <p:nvPr/>
        </p:nvSpPr>
        <p:spPr>
          <a:xfrm>
            <a:off x="0" y="496728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ine 204"/>
          <p:cNvSpPr/>
          <p:nvPr/>
        </p:nvSpPr>
        <p:spPr>
          <a:xfrm>
            <a:off x="360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Line 204"/>
          <p:cNvSpPr/>
          <p:nvPr/>
        </p:nvSpPr>
        <p:spPr>
          <a:xfrm>
            <a:off x="3240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正方形/長方形 15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9BDD6D89-662C-484F-BEEB-0C77ED244F14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Line 204"/>
          <p:cNvSpPr/>
          <p:nvPr/>
        </p:nvSpPr>
        <p:spPr>
          <a:xfrm>
            <a:off x="0" y="36036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Line 204"/>
          <p:cNvSpPr/>
          <p:nvPr/>
        </p:nvSpPr>
        <p:spPr>
          <a:xfrm>
            <a:off x="0" y="496728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204"/>
          <p:cNvSpPr/>
          <p:nvPr/>
        </p:nvSpPr>
        <p:spPr>
          <a:xfrm>
            <a:off x="360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204"/>
          <p:cNvSpPr/>
          <p:nvPr/>
        </p:nvSpPr>
        <p:spPr>
          <a:xfrm>
            <a:off x="3240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正方形/長方形 15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13D955F2-0FEB-42DB-9741-32FF99B2A94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Line 204"/>
          <p:cNvSpPr/>
          <p:nvPr/>
        </p:nvSpPr>
        <p:spPr>
          <a:xfrm>
            <a:off x="0" y="36036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Line 204"/>
          <p:cNvSpPr/>
          <p:nvPr/>
        </p:nvSpPr>
        <p:spPr>
          <a:xfrm>
            <a:off x="0" y="496728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Line 204"/>
          <p:cNvSpPr/>
          <p:nvPr/>
        </p:nvSpPr>
        <p:spPr>
          <a:xfrm>
            <a:off x="360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Line 204"/>
          <p:cNvSpPr/>
          <p:nvPr/>
        </p:nvSpPr>
        <p:spPr>
          <a:xfrm>
            <a:off x="3240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正方形/長方形 15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4E7E5B21-A4C3-4BCA-BE2C-F5FDD62DF782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Line 204"/>
          <p:cNvSpPr/>
          <p:nvPr/>
        </p:nvSpPr>
        <p:spPr>
          <a:xfrm>
            <a:off x="0" y="36036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Line 204"/>
          <p:cNvSpPr/>
          <p:nvPr/>
        </p:nvSpPr>
        <p:spPr>
          <a:xfrm>
            <a:off x="0" y="496728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Line 204"/>
          <p:cNvSpPr/>
          <p:nvPr/>
        </p:nvSpPr>
        <p:spPr>
          <a:xfrm>
            <a:off x="360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Line 204"/>
          <p:cNvSpPr/>
          <p:nvPr/>
        </p:nvSpPr>
        <p:spPr>
          <a:xfrm>
            <a:off x="3240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正方形/長方形 15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CA997C28-AF05-44E0-BA23-2A68308CC4BC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Line 204"/>
          <p:cNvSpPr/>
          <p:nvPr/>
        </p:nvSpPr>
        <p:spPr>
          <a:xfrm>
            <a:off x="0" y="36036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Line 204"/>
          <p:cNvSpPr/>
          <p:nvPr/>
        </p:nvSpPr>
        <p:spPr>
          <a:xfrm>
            <a:off x="0" y="4967280"/>
            <a:ext cx="3600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Line 204"/>
          <p:cNvSpPr/>
          <p:nvPr/>
        </p:nvSpPr>
        <p:spPr>
          <a:xfrm>
            <a:off x="36036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Line 204"/>
          <p:cNvSpPr/>
          <p:nvPr/>
        </p:nvSpPr>
        <p:spPr>
          <a:xfrm>
            <a:off x="3240000" y="1440"/>
            <a:ext cx="0" cy="5327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正方形/長方形 15"/>
          <p:cNvSpPr/>
          <p:nvPr/>
        </p:nvSpPr>
        <p:spPr>
          <a:xfrm>
            <a:off x="36360" y="36360"/>
            <a:ext cx="3527640" cy="5256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17892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1230480" y="4938480"/>
            <a:ext cx="113976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2579400" y="4938480"/>
            <a:ext cx="841320" cy="2840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4B1CC342-DB0A-4654-B696-F1BE4E0C760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596880" y="1682640"/>
            <a:ext cx="2405160" cy="1962360"/>
          </a:xfrm>
          <a:prstGeom prst="rect">
            <a:avLst/>
          </a:prstGeom>
          <a:solidFill>
            <a:srgbClr val="db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 u="sng">
                <a:solidFill>
                  <a:srgbClr val="000000"/>
                </a:solidFill>
                <a:uFillTx/>
                <a:latin typeface="ＭＳ Ｐゴシック"/>
                <a:ea typeface="ＭＳ Ｐゴシック"/>
              </a:rPr>
              <a:t>オフセット≪フチなし≫官製はがき専用テンプレートで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赤い枠線で仕上がりま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フチなしにしたい部分は</a:t>
            </a:r>
            <a:r>
              <a:rPr b="1" lang="ja-JP" sz="800" spc="-1" strike="noStrike" u="sng">
                <a:solidFill>
                  <a:srgbClr val="ff0000"/>
                </a:solidFill>
                <a:uFillTx/>
                <a:latin typeface="ＭＳ Ｐゴシック"/>
                <a:ea typeface="ＭＳ Ｐゴシック"/>
              </a:rPr>
              <a:t>ページの端まで伸ばして</a:t>
            </a: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デザインして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上下左右の</a:t>
            </a:r>
            <a:r>
              <a:rPr b="1" lang="ja-JP" sz="800" spc="-1" strike="noStrike" u="sng">
                <a:solidFill>
                  <a:srgbClr val="ff0000"/>
                </a:solidFill>
                <a:uFillTx/>
                <a:latin typeface="ＭＳ Ｐゴシック"/>
                <a:ea typeface="ＭＳ Ｐゴシック"/>
              </a:rPr>
              <a:t>いずれか</a:t>
            </a:r>
            <a:r>
              <a:rPr b="1" lang="en-US" sz="800" spc="-1" strike="noStrike" u="sng">
                <a:solidFill>
                  <a:srgbClr val="ff0000"/>
                </a:solidFill>
                <a:uFillTx/>
                <a:latin typeface="ＭＳ Ｐゴシック"/>
                <a:ea typeface="ＭＳ Ｐゴシック"/>
              </a:rPr>
              <a:t>1</a:t>
            </a:r>
            <a:r>
              <a:rPr b="1" lang="ja-JP" sz="800" spc="-1" strike="noStrike" u="sng">
                <a:solidFill>
                  <a:srgbClr val="ff0000"/>
                </a:solidFill>
                <a:uFillTx/>
                <a:latin typeface="ＭＳ Ｐゴシック"/>
                <a:ea typeface="ＭＳ Ｐゴシック"/>
              </a:rPr>
              <a:t>辺には</a:t>
            </a:r>
            <a:r>
              <a:rPr b="1" lang="en-US" sz="800" spc="-1" strike="noStrike" u="sng">
                <a:solidFill>
                  <a:srgbClr val="ff0000"/>
                </a:solidFill>
                <a:uFillTx/>
                <a:latin typeface="ＭＳ Ｐゴシック"/>
                <a:ea typeface="ＭＳ Ｐゴシック"/>
              </a:rPr>
              <a:t>10mm</a:t>
            </a:r>
            <a:r>
              <a:rPr b="1" lang="ja-JP" sz="800" spc="-1" strike="noStrike" u="sng">
                <a:solidFill>
                  <a:srgbClr val="ff0000"/>
                </a:solidFill>
                <a:uFillTx/>
                <a:latin typeface="ＭＳ Ｐゴシック"/>
                <a:ea typeface="ＭＳ Ｐゴシック"/>
              </a:rPr>
              <a:t>の余白が必要</a:t>
            </a:r>
            <a:r>
              <a:rPr b="1" lang="ja-JP" sz="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です。（全辺フチなしにはできません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ガイド（青い点線）を参考にデザインして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ガイドは印刷されません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はしないで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このボックスはデザイン作成時に削除してかまいません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3T22:53:30Z</dcterms:created>
  <dc:creator>matsuo-print.com</dc:creator>
  <dc:description/>
  <dc:language>en-US</dc:language>
  <cp:lastModifiedBy>matsuo-print.com</cp:lastModifiedBy>
  <dcterms:modified xsi:type="dcterms:W3CDTF">2018-03-19T05:52:13Z</dcterms:modified>
  <cp:revision>8</cp:revision>
  <dc:subject/>
  <dc:title>スライド 1</dc:title>
</cp:coreProperties>
</file>