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5327650" cy="3600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61B49-4D5A-49D7-A379-DB4A5C1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A5870-D558-4BD0-8EA5-93950BF2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BC6E8-4F24-4CD4-B563-D0DEDB02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A9E1-8BFC-4F90-A2AA-EC4FA7FE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6852-442C-44E4-8E1C-4179581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03BE-E241-4598-8DA7-0A67628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AAA3-F45B-4165-96BF-831DB37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96E42-028E-4387-A9E8-870FFCA8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41368-5AFC-40B3-B197-FAD98C22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286E5-69FC-4099-9F23-29045654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CE576-2EAA-424C-9F05-3218E64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E56AD-18E6-4FBE-AA4A-C39C11B2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E05F0-E5E7-47A8-89AF-A887F24E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7E2ED-CE4E-4BF8-B968-8F803E2A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AEB42-AAD8-496A-A2D6-60CE5124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43F96-BCBC-4CD8-AA45-C227239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0DA7A-E9AA-4AB0-9C8A-CA02BA7E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70226-3D7A-4711-B41E-9920FBBF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24B98-9351-41F6-AF7A-AB4FEDD2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6D3FA-F86A-4E88-88CF-BD199024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10176-C2CF-485E-B731-EF6B3AB0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8484E-4853-44F0-856F-606173B9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919B4-45F8-42DE-921E-E0824435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7263C-5D85-46CD-A22C-724DBBC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DFBFB-94E7-4D8E-8307-77372EC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0D46A-4FD4-4B9B-8957-1CF7387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63BA9-6A02-4EFE-9671-77F30017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EF4E4-9EFB-4376-826B-E051F34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53187-02BD-4C54-84FF-E5B8EE91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A65D8-0AD6-4C35-8E07-027AC80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872-7F30-4E3D-A5E4-0598BE4E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DB811-3FE2-433B-87F2-9602F38A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D04D6-0C38-4DB6-9241-39DD1126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330BD-D09C-425C-9A0A-0E6EEEA4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D3A21-20D3-479D-BC3A-EABE56FC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2C170-4B0D-47D5-893E-5A90F84B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7343C-C16C-488F-AABF-63868965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B4F21-B28C-4267-A824-D5E8F72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B3D74-48F3-45BB-BC7E-B611F509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EB08D-8593-4146-912C-DE6C607F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60B3B-1C1C-494F-8DF7-DD367CCB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E63-1C0F-45D2-940F-186AD5C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138A2-C134-48F9-A50D-2A72DBCE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47F25-001A-4CC0-87F4-51DB1EB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FD53F-CC53-40CF-85F5-6C993093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2D11F-CDEE-4E36-8CA4-3663619B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F73D-D49E-4431-8B9E-0BB1E820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523-71F6-4D94-B64B-49ADD22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53C-6DAE-4AE8-B08F-1315CBC0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E89-7882-4247-B244-A902C39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31E-6E82-4FC3-8FB8-E9F7E0D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8BA-4440-4288-ADE1-7B0E86D8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B9C-0FCD-4503-8C53-57826C2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7AA-E349-4FE6-91AF-F564255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24E-09B2-44E0-9D1E-FBB571D2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FDF-D284-4571-89E6-AA77A185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4CB-9AA4-46F8-8E41-2C61912B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C784-7991-4DA7-8739-998586A3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AE1A-00A7-45FD-821D-43522226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5AE9-3C29-4EC7-AA6B-6FD30E3E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5BD9-CDA5-46CF-ADB1-B933FE54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A94F-F6A7-4594-ABF2-95EEDFBF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F92D-FCB9-4F8C-806C-F6608BCD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579F-5A62-47C3-B2BB-984CDEE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59F3-5688-4C73-BBAE-9CCBB36F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24DD-5EA7-4670-84F9-80BF066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EFC1-8E60-44A3-8B4A-E9B17E9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EF0D-4BE4-445A-938D-B2657D02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800E-01C9-4A83-93AD-66EA8D0C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37A7-EA64-4135-B9C8-71C09048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2336-0C6F-43FA-9A34-3CCB7AB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2C63-6EB2-4702-A520-AC0BECDC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3A66-1E02-4C4F-ACAC-E99DBCDE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AD25-A0A4-4EC6-AA66-5374BC1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FEAC-3793-457D-87C4-8861137E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2488-C019-48F8-8EFC-37D2970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FA03-A9F7-432C-B8B4-085A4BA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32DF-0B40-40A6-98C8-D02EA72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7D11-4E69-474D-8850-69A779E4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DFBD-434A-43BE-925F-598D7295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58D4-BB53-44CC-A731-FC82C8E6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250DD-2129-4354-B043-485D7EB7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5CBE-F8DA-43AE-81D6-F7602434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3ECB4-92CA-4249-9A84-301BBBE3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0E20-ADAC-4DC9-9DBF-5C7256A1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2503-9A89-4D7F-8E33-A0987E48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E5C0-9E19-47C4-9A17-5B826765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E1C3-753F-4BDA-8E30-1BB11DD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9C36-046E-461F-8E74-681370A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5477-95E6-4EA5-B9E6-FE88285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A722-FFB9-47C6-8866-DE0047A1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9C6C-6265-4C1B-9E52-32BE9704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D441-97FA-4CD3-9139-ABE14F8C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7DD2-B45E-4A87-9EFC-9A147A7E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56964-6ECE-4079-974A-347E2A26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A3FCE-575A-4207-BA16-2122B459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296E-A0E4-45F2-992B-B82E6B58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0C16-8E41-4D41-9C09-2EE1C0F9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A8CBF-6747-49E6-995B-3084F505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C8998-3732-4195-8E76-EC7A40E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418B-1839-4AA8-9166-BD67B717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62318-5D4B-48B5-AD20-C73FD29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3D4F4-0880-4355-AE12-3C1D1A7A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35B72-B241-426C-8EEC-ABA38968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49BE-1C30-403B-8096-F6365FD3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E1D44-AF11-4C05-A25B-B837B006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E54A-040C-4F90-9BFF-C9BC9654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FAD9-A066-4AC5-BF33-85AD96A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18B5-500C-4747-98C7-BFD96B91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A7E2-7F26-469B-BF3E-B77576E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8E9FE-FB6F-4B62-B00C-2D8A5C6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7957D-E02B-4005-8CF6-6D2BC41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277B-7F38-43F0-8CBF-BD3A504C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C7476-E9D4-4249-A1AD-9406F56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EADD8-6645-49FF-8A7A-2B6CF2E5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E3EED-90DF-40A5-9C0F-25483045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129D-C19C-4928-A68F-76B2B224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CC464-9134-4EE7-8C2E-337DDE26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FDF0C-72A2-4D83-BF8E-743F8CDA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6D556-1F51-434E-9A2E-E70CB4B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69AE-8A91-4B2F-B84F-5EEFCB95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FD4C-D357-4373-8CA1-6D04E38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66400" y="143640"/>
            <a:ext cx="479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F6EFB-F4E7-4E0A-8F01-F337B662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FDE88-1131-4C38-92B0-1E122A63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69AFA-B180-41ED-9307-0BBABFE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F34B-CB99-4F95-BAD8-69B4E80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66400" y="1933200"/>
            <a:ext cx="47948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B86BE-FCD3-46B4-A9C7-0613D39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723400" y="8424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66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2723400" y="1933200"/>
            <a:ext cx="2339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01762-C162-42DA-B575-0983568D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88748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508920" y="8424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6640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188748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3508920" y="1933200"/>
            <a:ext cx="15436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CA3D-E9C8-42EC-A523-468C19B8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C655-202A-4DE7-A156-EAD4F9D2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4CAE-7E4D-4733-9C7E-4EA43F83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64012-07ED-4093-B23B-F172FA5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01CE2A70-40BA-4F1A-BEDD-D35AF519C61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ED4B0E4A-88CC-4182-97E7-8896717EA2A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E7B8112-C05D-4314-AE34-47F2B65B4A4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7E17F19A-CBAC-42A5-8939-E35BC05E142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266400" y="143640"/>
            <a:ext cx="47948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266400" y="842400"/>
            <a:ext cx="47948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4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847CF07-1584-4D04-B60C-EF44AC65E59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353D8C47-03F7-4FDF-9246-038E6EE26B8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F6779DE-F78B-4849-9072-5F91CB32EC6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368EF999-1CE1-4934-967B-5E2111A88B1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7C7DACAF-8A60-4EA0-9260-ECA19303538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CCCCE86-89B0-4A2E-AB59-FCF3AEC5D44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204"/>
          <p:cNvSpPr/>
          <p:nvPr/>
        </p:nvSpPr>
        <p:spPr>
          <a:xfrm>
            <a:off x="0" y="36036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204"/>
          <p:cNvSpPr/>
          <p:nvPr/>
        </p:nvSpPr>
        <p:spPr>
          <a:xfrm>
            <a:off x="0" y="3240000"/>
            <a:ext cx="5327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204"/>
          <p:cNvSpPr/>
          <p:nvPr/>
        </p:nvSpPr>
        <p:spPr>
          <a:xfrm>
            <a:off x="36036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204"/>
          <p:cNvSpPr/>
          <p:nvPr/>
        </p:nvSpPr>
        <p:spPr>
          <a:xfrm>
            <a:off x="4967280" y="1440"/>
            <a:ext cx="0" cy="359892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9"/>
          <p:cNvSpPr/>
          <p:nvPr/>
        </p:nvSpPr>
        <p:spPr>
          <a:xfrm>
            <a:off x="36360" y="36360"/>
            <a:ext cx="5256360" cy="352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26640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1820520" y="3336840"/>
            <a:ext cx="168732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3819240" y="3336840"/>
            <a:ext cx="1243080" cy="192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D3802BBD-0E18-4628-BB0C-8AC4ABE7CAE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440000" y="863640"/>
            <a:ext cx="2404800" cy="196200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≪フチなし≫官製はがき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赤い枠線で仕上が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フチなしにしたい部分は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ページの端まで伸ばして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上下左右の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いずれか</a:t>
            </a:r>
            <a:r>
              <a:rPr b="1" lang="en-US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1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辺には</a:t>
            </a:r>
            <a:r>
              <a:rPr b="1" lang="en-US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10mm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の余白が必要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です。（全辺フチなしにはできません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（青い点線）を参考に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は印刷され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matsuo-print.com</cp:lastModifiedBy>
  <dcterms:modified xsi:type="dcterms:W3CDTF">2018-03-19T05:53:17Z</dcterms:modified>
  <cp:revision>9</cp:revision>
  <dc:subject/>
  <dc:title>スライド 1</dc:title>
</cp:coreProperties>
</file>