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3600450" cy="5327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F64F5-28FC-44A5-9EC3-24837F4E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E2703-5E95-49FE-BA79-55A19F58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798A8-32B8-49A5-9EB4-2EF9ACEC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62BA1-B4EB-4A90-9215-76FA184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63BE-62C7-4CA7-A7E8-6847E06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FED7-8244-421C-A465-FF4B85B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CFE3-6336-497B-89C9-47DD7E0F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35A57-6A62-4C7C-847F-0199B3A6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95572-37D7-4C6D-AE19-DF694467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82A00-E5A2-4C55-AE7A-F24C5E16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CB2D3-A372-43C4-9B53-BDE80EAA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328C-CD83-4F2B-A044-4CD603C5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29B3E-FC68-4C9C-9ADE-F9D3F229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9A795-E95B-4720-95F8-691A1E60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FB34E-7D64-4C2D-AD63-01BA9A3C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6D00-E20E-4EB9-95F3-1F3852B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1AD1C-0ABE-4752-A19D-E9C8A25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ADF33-6087-4872-BE14-40C47899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54311-2ED9-4009-8454-81AF94E4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A55A8-96CB-4A2A-A852-5AC11F26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8B7CB-F97A-48BD-AAE6-B72E1A40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4E6A4-6017-489E-A2F2-9F5444E5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3F6BF-45A4-4620-9265-3CA6C615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A76F-90F1-47AA-989B-2AB4141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5CA88-CE24-43B4-B0E3-F5369A6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DB8DB-A256-4479-95F9-02915B60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7F702-CC5D-4ADF-BA56-E7EABB41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39BE2-254B-4D77-9CC5-291B919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89CEF-C5A2-4AD5-85B4-17D29D9D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8432B-B3C0-4CA1-B4BA-A730E88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358-A319-4FB4-8D55-16D6A155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61B31-CF60-417D-8D71-3FBFA277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3F312-0CB6-4805-9517-048AB267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BE90C-93A2-4677-BCD9-606CD83F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3ED04-35C2-4D5C-A372-0563FD7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37459-EF66-45EC-8EA7-B500828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86A2-987B-48B5-AB9D-840BC055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5C9BA-E6BB-491D-B46F-843A782D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A6905-E922-47B9-8E1A-BAFBF5D2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0DC97-F635-4876-AB53-2A504457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B339-F768-4EE3-9377-D6BDA9C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3E6-B04F-4060-A630-DBD286A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76919-ABC0-4816-B884-D248E24F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E592D-D590-4343-B2D1-86FA3F1D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BC287-89F4-4036-B8F2-FA843EEA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0A23B-39A6-4BB0-ACF1-2DF6C4BC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50550-C752-4F5F-85E9-71B37558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38E-1B58-4701-8AA5-8FB0B21C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1FF-F23C-4989-936C-B2D9F0B3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B1A-176A-4896-BDD6-8FDFF737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247-7FBC-44B3-9BAB-6EC492CD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30F-8B7D-4A31-A8EB-DAAF35B1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331-7B8E-4456-BA3E-AC6B6EA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314-2818-4E71-B9DF-831C0796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1A3-E06D-406C-8AC7-D5B02F84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75B-1777-466E-9DF6-BB784E26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7E3-63F1-410E-B95B-ACB5663C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3BDB-9B01-4D2C-A5DB-5F5BAAF4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3658-A62C-4071-992B-75309AD0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4E2-2D7F-4786-B149-C279C8A7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66AF-CF9C-408C-A1E9-01ED86E9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86F9-8ED6-498B-9749-9FBF377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761B-C2C9-47FF-AB92-1AAD65B7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4AA1-DFEA-40B8-B746-1A6450B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676C-E197-46EC-9D7A-6CC5E64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2C99-9392-4BB7-B3A8-7EDD30D0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8B20-E9A4-421D-8AD6-8A02A47D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45A8-C323-4D11-BB41-1A04AE40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565-1B85-4FC3-BCA2-F637499D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C6E4-98A4-4CA5-BD03-5982B42D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BBA3-004B-4DC2-9E64-8092EBF1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EFA4-2D50-457B-8690-D82AE7C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65AB-9FFE-40CA-A84E-3907CA3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E195-F999-458F-885E-5A95D275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D91C-E736-4AFF-B956-CA0569C6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0244-F12B-41A9-B4DF-AE86A246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3D4F-DC2D-4F74-9DB7-D75FCC1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04BF-9AA1-47A4-992C-602AD5B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4DE1-EF9B-48DC-BC14-8967A81A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04581-1902-4F14-87E7-B6ECE09D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E758-6E17-4F9A-8E6A-AE489183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6868-C0D7-4DF0-9261-0DD55093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EF26-3C03-48C9-85D4-63D9E036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AFBB-7CB6-4587-A954-B24A64B0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81B8-E44E-4D62-B0BE-87C7934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2DB8-32B7-4753-B18C-6EB11154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A588-EAF2-4456-96B6-807501A9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A42F-31C8-4570-B0EA-0A2DEFC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99CA-92E1-4588-BC04-B47BEEB1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A27D5-41B1-4064-B6C0-AD44B67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05F9-18AE-459D-8A36-CBE81575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77D0-3EAA-437C-8B8B-F7697E11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3C81-3C2D-4F08-9FFC-D2D7616E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AD18-8F73-4AEE-8E99-8DC6FEF0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BBCE-DF48-40D0-8B94-0C61B1D9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0D08-D190-42C4-8A33-233C540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C0B2-B21E-47F9-B075-D1A59C54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CA42-3FDD-4418-89D4-859DBA1C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D6C5-F951-4E1A-B9FE-CCF31DB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ABF03-828C-48FF-ACBB-F1C8D1B0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C7DEE-423E-4FF8-83AC-0C8D01C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0ED4-D0B7-4D0E-B0C7-6222F83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2411-93BB-497F-869A-8BC5AE2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7D8F3-AF6A-4F2D-B044-9D34CFD5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6851-724A-4577-B8B1-96EC46D0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1F31-EB60-470C-AC4E-C6E63CE5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5DB10-07B9-4CFC-8273-8AC8E69E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B7B2-C583-4EA8-94CC-0BBA72F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B559-E3D9-4877-8AFF-0C4DA5F7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85C96-08C9-4A46-88DF-79F85713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E62E-2A2F-4784-A4F0-3B108B1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0BF5-0277-4112-B62D-0AD1421B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77D35-E4CE-476E-8D5E-C628B22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F0F42-0CE4-414E-8CFB-F31C28F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0AF3-ECCD-4954-B9AD-36C3CA7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9D25-594A-4180-B382-AFA397A2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1AAAD-E9D8-464B-A3A1-1542B50F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1A8BD-341A-4C12-8A14-058F6DE6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BCB91-1A66-42C2-AC67-B0AAED6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E26F-D2C6-4616-B6C2-E31D497C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7558-636F-4EDB-8931-AED55AB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9AD65-D8E4-4C3E-9728-A998E2A6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43D56-55F1-41C4-9253-559B9B0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5C1B1-84E0-46DC-B5C7-51A1A64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B1356-81CF-4C82-9550-8F83FF0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D7490-24D8-42A1-BA69-4FA51A7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C06F-C248-42C0-B096-FCF78246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10119-8818-439E-863C-A14CAD71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BB885-5B8F-46E1-92E4-9331F33B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A9479-71C1-4F99-AF98-AA9B7322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B3BEC-87D7-4E53-826F-3CE6E4D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F18BB-956F-4C61-B85C-04AEB428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378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3E647901-9649-4EC2-BFFF-44DC1D1BE3A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20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55064FE8-623E-47EA-9121-08834CDCC3F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62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AEB872E0-EC96-4312-A8A4-93D49ED4FA9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40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FCD49556-69F6-4CA2-8B36-F0F51F2DF05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84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ABA72430-0985-43E7-8631-6099932EEC9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26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61E8442-421D-444C-B8D0-51543F1C46B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168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788C17F0-2059-40CB-9DB1-89FBAF2E875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10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3B3358A-DDD6-4C14-B04A-B57D84E8FD7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52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FE5AAACB-B50D-4339-B515-8C9F755B1CC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294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F7AB089-A5A7-4675-A817-FCD6363CE6D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図 2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5329080"/>
          </a:xfrm>
          <a:prstGeom prst="rect">
            <a:avLst/>
          </a:prstGeom>
          <a:ln w="0">
            <a:noFill/>
          </a:ln>
        </p:spPr>
      </p:pic>
      <p:sp>
        <p:nvSpPr>
          <p:cNvPr id="336" name="正方形/長方形 8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3"/>
          <p:cNvSpPr/>
          <p:nvPr/>
        </p:nvSpPr>
        <p:spPr>
          <a:xfrm>
            <a:off x="0" y="2664000"/>
            <a:ext cx="3600360" cy="2663640"/>
          </a:xfrm>
          <a:prstGeom prst="rect">
            <a:avLst/>
          </a:prstGeom>
          <a:noFill/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ED7AC5C3-8644-4A4E-8D28-AC96371ECB5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669960" y="950760"/>
            <a:ext cx="2260440" cy="158436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≪フチなし≫官製はがき（宛名面）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赤い枠線で仕上が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フチなしにしたい部分は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ページの端まで伸ばして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（青い点線）を参考に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は印刷され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Win10_PC1</cp:lastModifiedBy>
  <dcterms:modified xsi:type="dcterms:W3CDTF">2019-10-24T22:47:57Z</dcterms:modified>
  <cp:revision>11</cp:revision>
  <dc:subject/>
  <dc:title>スライド 1</dc:title>
</cp:coreProperties>
</file>