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3600450" cy="5327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CA31-CB19-42BD-9C3E-2013DBB6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F67E6-64AA-4364-8E1D-73CBDF2E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F4850-05C9-43EF-98F8-81FF169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04AE4-00F3-4D3E-99B5-3D6E137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570D6-9E74-44E7-BFE3-3203D67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943B-5F93-40BE-9EAC-26E7894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ADF6F-4DD1-48AC-B623-536B988A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002AC-2705-468A-9AE7-9ECCF415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AF10-ECA1-4B76-8184-CB79A78E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D37DA-5607-4DB5-B062-E9BCB282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DA888-5382-4396-A213-0023BA3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5239B-EDD4-42EA-80BC-F1B421D3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37902-AA38-44A8-8F5F-ECC661AE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601AB-C13F-4944-9D7E-5BF4C9A7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60B96-5C8D-460A-B03A-189EB97D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FA2B8-FF0C-4347-83AE-A6775379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09C41-8724-4B00-A386-1172E1D6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CCB7B-D5FB-4903-B6F5-6CF9242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95D2D-A4AD-4CF4-A9FA-CBC9EE8D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156A4-BBC0-4FE9-AA4D-870486D7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D5194-77BB-48BF-A346-A8499EA1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6A198-3154-4B30-85B2-290C8179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0BA37-B7CB-482F-B6E3-9A42A337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D71F6-3065-454E-9F4A-2DD93015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6FF76-AB63-4C4A-891F-F906847B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6865F-30FD-4FD9-8152-1C6C12B4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D6457-F517-4200-ABBB-F758B985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695D3-4CA3-4282-8C11-D536B6DD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9B68D-7B52-48B5-82AC-F39B428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38B17-08E2-4301-B6B6-5E37A240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385-09AD-4FE1-847B-973C2A0F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02B05-AA3C-4A2A-884C-5EF08A25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9B4F4-F215-4855-A1C3-DC543802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D3DD8-9564-4A63-84F3-5A2F7CFF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4549E-AD73-4E86-923B-3A252FB2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2EB31-9781-4392-8432-5DF3CC50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B6438-9E35-482B-8D7A-A52B830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A46EC-70D3-4665-8271-1B7AF12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AA349-149A-4A7D-AB84-0DC791F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1522B-F87E-47F6-9E93-15F0AD30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18846-017A-42D3-956C-C8B46B8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E29-A592-4781-B99D-94B30BE4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21ED-7432-4D3E-A125-396CF82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2D990-A6F7-4E06-99BF-62CF037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DA45C-0F21-4C11-92FA-4662BBA1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571B-049F-4F31-9F3F-C6F8BFE3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24EF5-A006-474F-9EE5-C01298A2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0C6-E6A4-4D36-B3EE-5A7930D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B12-5FA5-4173-AB0D-F1133CEE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E9A-657D-4A41-B3DB-302CA81F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E84-30FB-4FBA-95C4-4052219D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A11-5375-499E-801C-170FBD7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323-C779-40BC-82A8-A7CA675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7B2-E59C-427A-8E33-2E3EC29F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173-54F5-47B3-911C-599CF7F0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66A-47CB-4D1D-AE09-D5BE9D69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345-2526-4489-B4B6-9E627704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413F-E099-4F19-A35C-30D7AE91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5B2A-9CBE-4E76-B1E5-4AEA7E9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2660-C32C-4E32-9824-2C4027C6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A05D-24D3-4666-9E80-131A8597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D36A-3BFE-4A21-96B6-40B5082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0C16-F5CB-470C-90AB-6769C751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7F15-F02C-40D8-8485-F0590D6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79FD-A109-4975-A15B-8128457D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BB02-7BF0-42C9-94F3-6E5086B2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32C6-4D5C-448E-8F53-0ABFA2CE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A823-709D-4A96-AF2A-1A5272C7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023-66DA-49DA-9F60-B6E8D15D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A4F4-AC04-4917-B65F-F56A76FF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E07A-839C-41AB-9614-47E70D19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5D63-F4FF-4AF9-933D-A95E8010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8C68-6FE4-4327-B9FD-DAC6679D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5882-030E-4D17-BF26-1E3A754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8335-EB5F-442E-BC83-84A429BB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5922-4BE2-4ACE-931E-3B1E2165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3D71-3EEF-4E05-85DC-2BBEE36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CECF-F73E-49D9-8CE5-C4CB7250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C8AA-F1DF-4CEC-93B4-D953DC8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BCF0-6CF3-4F52-90A0-58309E6E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14B8-59A0-4A50-A1CB-8DFECA07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7CA6-A815-43F5-943D-99050837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F44E5-248C-4C1D-99DA-D94838B7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31E7-1290-4D5F-AB5F-3C2A016C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7EB3-C7E2-4DA9-9646-4719FE02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35D6-3D3C-4D6E-82B6-6E0D9B87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6861-0C43-4180-96ED-AB29C7AA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C3EA-9786-49DC-8680-69AA6F7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BF7A-7C1A-48A7-AC9A-3E9B060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8639-52BE-4931-8820-3C5C1661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A74E-D579-4CE4-8E4A-E9D4DB8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384B-3E60-4CDC-ABDA-FEAB321D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29BF-8DE9-4703-98D6-37B301B6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E88ED-B946-47A7-8418-CE027DF4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3109A-69B6-4324-9D21-84660025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C63F-C387-4E88-9EDF-62F50F4D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F21E1-1602-4660-A844-B28C1BD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145F-FDC9-4E9F-BB0D-163A2EA0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9BF2-F4CD-4289-A7C2-D32F730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497D-7A5C-482A-B71E-9F382F7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34113-6CB7-414D-A2ED-9EF23D66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1E230-AF5A-4061-9434-CCEDF70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C592-2612-40B2-87E8-9EF7498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8A74B-8D0F-4FD6-A709-36C61863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44DC1-28DE-4886-A244-3F58F7C1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4B07-D063-4836-BC19-34426739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E97C-24B3-4895-9D7E-4BBA0F91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2CC0A-765A-47AF-A74C-35815B0F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4803-8F73-4F9B-9C97-D0F291A9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928F-574C-419B-8F32-51ACFCCD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C16A3-C85A-41BA-8D19-F1CF47B6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B4A3A-1410-42AD-A0C7-03FB8ECE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404E7-A8C7-4CAB-8F85-26E9829B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AAD71-24D2-41FC-88AC-8708A71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43230-FFBE-441E-8CBB-F26F72A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69E8D-8CD4-469C-9188-8F19A427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12FBD-F35F-45A3-B378-40DB6126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5E7F-1F15-497C-876C-4AFF5939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45436-74ED-421C-AFE6-D67C1FE4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F7A1D-8125-4E0C-8D2D-49518C64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BDD7E-EA96-4BE6-A51E-478D7A64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5BDF4-71B9-42C0-A7CB-313EC23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6556C-819B-4D52-82AC-63D32315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2CBCA-0651-4B68-945A-44C8BDC3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792FA-D87F-42A0-ACD5-16F2CF8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27F6F-CCAA-430F-ACF2-CF576F03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8669C-7518-4FE3-85B2-34F621F0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BF7FD-562A-45D0-BF83-D44C50CD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8C07-7AA3-4208-9698-711EA9C1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005ED-7307-462A-9BCF-DAF4E766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C50D5-7A1B-4AB0-820C-C836AE0E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00988-56E1-4D9E-8D82-EA55C6D3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378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7947C711-1794-4555-B2DE-9A45217365C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420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F2DA990C-ED55-4C9E-A78C-3F496C4ADC2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462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27FFA278-EA5E-4E74-8FAB-B9D72142C7E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40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CAD9F519-A491-43BA-967D-46722EEFD2E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84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E01AE419-A3E6-4416-8EB9-676205E12F7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26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DD9FC8E4-C570-4B01-A5C9-70F88992F42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68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5E71C88E-B935-4034-991B-F4A3AAD3CE0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10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61E08C61-A176-4097-A14D-90FAA520490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52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58E5CDB9-134A-4B28-8063-FF3EA3A7B4D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94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6EF29FE7-E283-455B-B789-FB00ADDF1E8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336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BC098930-F720-4AE4-AF3B-95B8125BF79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669960" y="950760"/>
            <a:ext cx="2260440" cy="158436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≪フチなし≫官製はがき（宛名面）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赤い枠線で仕上が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フチなしにしたい部分は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ページの端まで伸ばして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（青い点線）を参考に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は印刷され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Win10_PC1</cp:lastModifiedBy>
  <dcterms:modified xsi:type="dcterms:W3CDTF">2019-10-24T22:47:57Z</dcterms:modified>
  <cp:revision>11</cp:revision>
  <dc:subject/>
  <dc:title>スライド 1</dc:title>
</cp:coreProperties>
</file>