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5327650" cy="3600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B72AF-D322-4DE8-9A4A-934DD9C8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EA508-0CAF-415C-81C4-B28B9FA0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266400" y="143640"/>
            <a:ext cx="479484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DA175-A356-4F0D-A6A3-A872A5F5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6F18F-1860-45D5-868A-F26A3BBE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0C1B4-0661-4EB8-B31E-0CE04563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17A71-D12B-4D6B-9D06-621498D9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875F1-72A1-4323-9605-0D850275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6E2F2-BE87-40A7-BB17-465C5E0C1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188748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50892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26640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188748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350892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B253E-8414-4791-BFDD-B13ABF802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94857-36C3-47DC-8A8C-0667E180D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EB324-0902-4875-AC15-D3899794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A08B5-08F7-484F-A1E0-F17AAE09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AF290-F0A2-43C4-A386-507B3D63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3C98D-13BF-4CB3-9AEB-A50F4576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266400" y="143640"/>
            <a:ext cx="479484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9762E-0E84-4E99-8078-07E8CD40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38BC9-A9E3-4D72-BF40-27EE0557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D8E929-35FE-42E6-9006-A8CD32E8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B75E6-F9A2-490D-917D-96A32824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EC7E9-A348-4BE0-9DEB-D6D55523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4E5C7-7731-410D-9E17-56C7AC865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88748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50892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6640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88748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50892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188748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350892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26640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188748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350892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46BAFA-012F-4E9B-91A7-B9148A247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1DEF7-EE78-417C-94AF-98CFC529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5A8576-7CFC-40E9-9D1E-B5394945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1F9702-08CD-4CD8-BDB9-84E5B06E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C31C2-BB18-420A-A923-23FBE0A3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E89BDB-2F0C-41DF-ADE6-476A5E9F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266400" y="143640"/>
            <a:ext cx="479484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A207E-A865-4E56-95B3-DFBF0820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A4F91-16F0-40F5-BFA4-DEB85B95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15659-358F-49A1-93AD-1CDCA216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EF0EEF-13E1-450D-BB8B-5310AF22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7DBB-0A6C-471A-9120-883AF068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C294F-C888-4FA1-8C2F-543C9E70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9C1E87-19BE-4A5F-8B3C-39E663CAC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188748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50892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26640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188748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350892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C9C729-969D-42EE-A3FA-31E93765F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A68C7-85B0-4B98-94F4-D711D2F74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EC96B-0656-48E1-A3E1-D96AE3B8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C6F50-C35E-4F8A-A3F6-FF1E3C16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1A62E-B272-4BC1-88BB-0BE99413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81942-E154-4556-AAD5-A2C12EA5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266400" y="143640"/>
            <a:ext cx="479484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040A2-3857-4EF3-A939-0008A3E0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C55F9-366E-4A12-A8CC-13D8BE45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A28C-4E43-4D46-86D2-A46B3D97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36D94-CA4E-496A-AA80-6832E7F8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9EF7E0-A096-4CFC-827F-A768F7CC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DACB3-3B26-40C6-8BCD-AD3963EC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1E0E9-C1E7-4DB2-A8CC-3A86C5B12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88748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50892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26640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188748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350892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89B9E-1D8D-47B5-A0D4-FE3D81F42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4095-9DCB-414A-944E-C21C2080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515E-FF2F-437B-AC6B-0FACF936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4DFB-EE21-4532-AE39-5D28E9EA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66400" y="143640"/>
            <a:ext cx="479484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E501-5E82-4664-9C17-4F556740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1B5C-9C1C-45D8-BECA-CFE5A078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E16D-2F23-40D6-A3E9-BF85C2AD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A44E-B47A-4F44-88D9-1FA1C65A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7CA8-3A1B-4C02-92E3-4E013DE2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15FC-1808-419C-B52C-0887AD938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88748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50892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6640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188748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350892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ADD3-F466-4755-AB3B-7DFDE2D2F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06B6-62C6-4E5A-805F-B243732C7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F2A6-817B-4763-A56B-BDC0ED0C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49FB-FAE3-435F-B785-38C27A15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A182-7AE7-4CC8-86A3-738DCB6A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E1C7-A4D4-41DE-93FA-F2CCAA8C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66400" y="143640"/>
            <a:ext cx="479484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695C-AC89-4931-BC00-747A5FAA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C247-AABB-40B8-A61D-EAA16184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7CDD-726A-40C7-B3B6-D9AD5DB0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BAB5-0171-4B9E-AD63-0B440B1E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6EAF-B3CC-47B7-905C-EC26E1AA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9084-022E-4006-B79B-E4315E30C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88748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50892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26640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188748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350892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A3CE-A26A-4CE7-A50C-1DC5FDB13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48F10-69C8-447A-BD5F-97B7D6EA4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9047F-4A2D-454E-8CD6-83097890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184D1-0125-4A5C-8BBF-D615FB6B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F9637-BC85-40C3-9038-886576AE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8989C-E557-4262-859B-401CA396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266400" y="143640"/>
            <a:ext cx="479484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E6120-09BC-4ACC-9137-E374E01B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E5940-9C51-4E8A-A4C3-1250BCBA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21800-7632-47E4-9150-9732133F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F1270-72B1-4F2F-A94D-77193921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472B5-6C44-4EA5-BFCA-B114D8AC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45F58-7E37-4171-AC1B-EC68A6AF3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88748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50892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26640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188748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350892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6EECE-2B74-4502-8BB0-48D81747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2DF8F-C841-4890-8EFE-C54093FE7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282F6-1E37-469C-9A81-35031B76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4EBD4-FAC9-445D-8CF4-09E4EAEB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27C99-6D74-4DA3-8DF9-2F9A8289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A3B56-4F83-4DD0-97AC-F20F8CB7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266400" y="143640"/>
            <a:ext cx="479484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AC0DB-28EF-4E0C-868E-9CC853F2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2BF34-CD50-4710-BAD4-2EDE5158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BDED0-03F3-49D7-A585-A9BB016D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58AB1-BBFD-4C14-9BFC-4C09BAB7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AB33E-F0AA-4E5B-A3C7-4B4AB984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B7894-3AE6-4D35-A0A4-E5235A6A8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266400" y="143640"/>
            <a:ext cx="479484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88748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50892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26640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188748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350892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90BE9-442E-46FE-B84D-AB6FB8216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767D6-AF92-45D8-AB5B-438C605DE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22A37-C5C1-42FB-8ECD-CDAA41CB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B4460-67A7-452B-8403-E06D2C48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19E1B-A7FC-4430-9F50-EC00B532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24CF3-5A70-4BAB-91E0-3AD7D402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266400" y="143640"/>
            <a:ext cx="479484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2E215-0E74-444D-BC83-CD0275C2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105E3-6E60-4CD8-BAEB-F8B0079C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DB8CA-5EA2-480B-A749-21E3964F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BD7FE-7B66-4F5C-A1C6-49696D71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1218E-86E5-4E6D-B23A-CF9D3933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7E925-BDF5-415D-B194-06A7300C0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188748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50892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26640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188748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350892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959EC-6E82-4EEA-BF4F-A832F159E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8C615-EBDE-4B5E-B7EA-F47248F15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0F14A-2CB1-4EDD-B4AF-F2DD027F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E7718-68E8-430D-9F5A-54D95C3B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5BDE1-47DB-49B4-A011-FAB324B7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6CF8D-2105-4790-9FB6-A761473D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266400" y="143640"/>
            <a:ext cx="479484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A8E9B-7D64-4C90-8BD3-60EB1321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A726C-CB5C-4852-8A3E-903FE994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23590-6D85-41E3-AEAD-373ECA50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BDAEE-94BC-44EC-84FF-0EF29B3E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D8D9F-C92F-4BB5-BA84-EB05528F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635F0-04A1-40E5-8E01-BED5E9340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88748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350892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26640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188748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350892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5789B-F0D4-45F6-8E0D-9E3A52CB4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9DC3B-6457-42B0-B6EB-25B7CC9A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5FE40-3FB9-4DCB-8ED3-990B493C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350D8-A107-463C-847E-195198C9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D816D-B424-40CC-B06D-EF4FE380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783F1-19DE-4398-AF66-F487136C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266400" y="143640"/>
            <a:ext cx="479484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45C67-0A3A-40EC-ABAD-744B94B8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D36B3-EE9F-438C-9C0C-35A22882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2E70B-300B-41B1-9855-DE0C8673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EFBCF-CCA1-4CC2-AFAC-E1ED1B97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A0BFC-5860-41E3-A76A-3D6DE0AA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B3EC6-E822-4E1E-A3AB-BA90D0F53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188748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50892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26640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188748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350892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C99C3-CA3B-4062-BE07-A0D8E0352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E297C-4CFD-4C7F-A501-53FD236B2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17F5A-9E87-47DD-BAA7-D2F53FE5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808B0-3EB9-4CF2-82BE-8542B21B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正方形/長方形 9"/>
          <p:cNvSpPr/>
          <p:nvPr/>
        </p:nvSpPr>
        <p:spPr>
          <a:xfrm>
            <a:off x="36360" y="36360"/>
            <a:ext cx="5256360" cy="35276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正方形/長方形 9"/>
          <p:cNvSpPr/>
          <p:nvPr/>
        </p:nvSpPr>
        <p:spPr>
          <a:xfrm>
            <a:off x="36360" y="36360"/>
            <a:ext cx="5256360" cy="35276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26640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1820520" y="3336840"/>
            <a:ext cx="168732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381924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0DD6873A-AB36-49D7-A115-683F11F70382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正方形/長方形 9"/>
          <p:cNvSpPr/>
          <p:nvPr/>
        </p:nvSpPr>
        <p:spPr>
          <a:xfrm>
            <a:off x="36360" y="36360"/>
            <a:ext cx="5256360" cy="35276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26640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1820520" y="3336840"/>
            <a:ext cx="168732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381924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FD7D1C3D-290B-46FB-8851-3F9A88D1B693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正方形/長方形 9"/>
          <p:cNvSpPr/>
          <p:nvPr/>
        </p:nvSpPr>
        <p:spPr>
          <a:xfrm>
            <a:off x="36360" y="36360"/>
            <a:ext cx="5256360" cy="35276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26640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1820520" y="3336840"/>
            <a:ext cx="168732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381924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8ED41920-1F36-4F7D-B1EC-113D556C1F99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正方形/長方形 9"/>
          <p:cNvSpPr/>
          <p:nvPr/>
        </p:nvSpPr>
        <p:spPr>
          <a:xfrm>
            <a:off x="36360" y="36360"/>
            <a:ext cx="5256360" cy="35276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26640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1820520" y="3336840"/>
            <a:ext cx="168732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381924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145D98C1-C3DF-4369-8404-67BD9AD82750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4360" indent="-1587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36480" indent="-1267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892080" indent="-12708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4" marL="1147680" indent="-12708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5" marL="1147680" indent="-12708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6" marL="1147680" indent="-12708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正方形/長方形 9"/>
          <p:cNvSpPr/>
          <p:nvPr/>
        </p:nvSpPr>
        <p:spPr>
          <a:xfrm>
            <a:off x="36360" y="36360"/>
            <a:ext cx="5256360" cy="35276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26640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1820520" y="3336840"/>
            <a:ext cx="168732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381924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ACCDEF43-0065-433F-9EFD-5D4F93800DD8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正方形/長方形 9"/>
          <p:cNvSpPr/>
          <p:nvPr/>
        </p:nvSpPr>
        <p:spPr>
          <a:xfrm>
            <a:off x="36360" y="36360"/>
            <a:ext cx="5256360" cy="35276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26640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1820520" y="3336840"/>
            <a:ext cx="168732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381924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9C848217-C629-404A-8F85-B51C83B70E1E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正方形/長方形 9"/>
          <p:cNvSpPr/>
          <p:nvPr/>
        </p:nvSpPr>
        <p:spPr>
          <a:xfrm>
            <a:off x="36360" y="36360"/>
            <a:ext cx="5256360" cy="35276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26640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1820520" y="3336840"/>
            <a:ext cx="168732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381924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9E75769F-7C25-49F9-820D-79BBC016E51B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正方形/長方形 9"/>
          <p:cNvSpPr/>
          <p:nvPr/>
        </p:nvSpPr>
        <p:spPr>
          <a:xfrm>
            <a:off x="36360" y="36360"/>
            <a:ext cx="5256360" cy="35276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26640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1820520" y="3336840"/>
            <a:ext cx="168732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381924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DC2235AC-05CA-40AC-A35E-81FC9F5790DE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正方形/長方形 9"/>
          <p:cNvSpPr/>
          <p:nvPr/>
        </p:nvSpPr>
        <p:spPr>
          <a:xfrm>
            <a:off x="36360" y="36360"/>
            <a:ext cx="5256360" cy="35276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26640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1820520" y="3336840"/>
            <a:ext cx="168732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381924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6EAF4E7D-000D-4084-AE33-7BAA540E41C3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正方形/長方形 9"/>
          <p:cNvSpPr/>
          <p:nvPr/>
        </p:nvSpPr>
        <p:spPr>
          <a:xfrm>
            <a:off x="36360" y="36360"/>
            <a:ext cx="5256360" cy="35276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26640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1820520" y="3336840"/>
            <a:ext cx="168732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381924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9118DC58-7372-4A46-8935-B66A105DA365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正方形/長方形 9"/>
          <p:cNvSpPr/>
          <p:nvPr/>
        </p:nvSpPr>
        <p:spPr>
          <a:xfrm>
            <a:off x="36360" y="36360"/>
            <a:ext cx="5256360" cy="35276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26640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1820520" y="3336840"/>
            <a:ext cx="168732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381924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851DAF42-A443-495A-A532-63898A1E080C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2"/>
          <p:cNvSpPr/>
          <p:nvPr/>
        </p:nvSpPr>
        <p:spPr>
          <a:xfrm>
            <a:off x="1440000" y="863640"/>
            <a:ext cx="2404800" cy="1962000"/>
          </a:xfrm>
          <a:prstGeom prst="rect">
            <a:avLst/>
          </a:prstGeom>
          <a:solidFill>
            <a:srgbClr val="db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 u="sng">
                <a:solidFill>
                  <a:srgbClr val="000000"/>
                </a:solidFill>
                <a:uFillTx/>
                <a:latin typeface="ＭＳ Ｐゴシック"/>
                <a:ea typeface="ＭＳ Ｐゴシック"/>
              </a:rPr>
              <a:t>オフセット≪フチなし≫官製はがき専用テンプレートです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赤い枠線で仕上がります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フチなしにしたい部分は</a:t>
            </a:r>
            <a:r>
              <a:rPr b="1" lang="ja-JP" sz="800" spc="-1" strike="noStrike" u="sng">
                <a:solidFill>
                  <a:srgbClr val="ff0000"/>
                </a:solidFill>
                <a:uFillTx/>
                <a:latin typeface="ＭＳ Ｐゴシック"/>
                <a:ea typeface="ＭＳ Ｐゴシック"/>
              </a:rPr>
              <a:t>ページの端まで伸ばして</a:t>
            </a:r>
            <a:r>
              <a:rPr b="1" lang="ja-JP" sz="8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デザインしてください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はしないでください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このボックスはデザイン作成時に削除してかまいません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3T22:53:30Z</dcterms:created>
  <dc:creator>matsuo-print.com</dc:creator>
  <dc:description/>
  <dc:language>en-US</dc:language>
  <cp:lastModifiedBy>松尾 亮</cp:lastModifiedBy>
  <dcterms:modified xsi:type="dcterms:W3CDTF">2020-03-11T07:03:25Z</dcterms:modified>
  <cp:revision>10</cp:revision>
  <dc:subject/>
  <dc:title>スライド 1</dc:title>
</cp:coreProperties>
</file>