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3600450" cy="5327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2B9A8-974A-41F3-95DD-7C02DDFB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4033-9803-4EC1-95AB-DA483CA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00FF-74DF-4976-BDCB-9989AF9F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0D6E4-7374-44D7-9708-E378CF7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5312-392D-4CF5-813B-DB80A83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42D71-6FC8-408F-BC78-DD6AED7B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C16C-46F2-453C-875F-96D5B7C2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DD5F5-1123-4BB8-981B-5EDEA498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B5E8E-714B-4823-9351-71A1D3AA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71BB6-3263-4DDE-8167-6DC9BA7E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F6379-2B1B-499B-8EA8-9F7492A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ECF71-F437-45C4-A5B0-925EA4A3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4FE4C-A23E-4BAF-BB0A-B13F8696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F661D-344D-4335-AB40-0F162765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CC870-45EA-4FF4-A4A9-61250623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97A38-E4E7-4851-B871-C960B49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F4150-0818-4CE1-8120-88809D5A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7E2C3-3CE5-4514-A04F-AB0A09D9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8E52F-90A1-4449-ACAA-982BBD56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228D0-C0B3-4D58-AFC8-301A3F02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6798A-E52D-460E-AD1B-0AC58EDA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88D5A-396E-4548-8E2F-F74C6D5C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AFEFD-2958-4358-BF56-8E10FA6B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2610B-C6F4-47AF-8F2C-3F810038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9D02E-FF4C-4F2C-AFDF-130DDCBB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44406-E52B-4E72-B592-8F80FE08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9A74C-9DDA-4597-97C9-A39F95EE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7B39E-33A6-4A6E-828C-91DE4ECD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A82FC-E0E3-45E0-94A3-1D35236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100C5-1777-4E7F-B7CE-3529B9C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0DE-C930-47BE-A5FC-06525C83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1118E-48B0-4E4E-8370-587414A0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4DC7B-6D18-4E6F-99F9-2F466FC5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F0517-23A7-4BFF-9780-B1E8E7DD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3EEBD-F271-444D-AB0A-3AA6B2D9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DF054-C5C0-43AC-9337-4B831ACE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2C6F6-6393-48D0-8F04-A3EBA89E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65191-4455-4797-8808-5DE21EBC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BB686-1BD0-451C-83C7-EB6930EF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8F4DC-9BC1-4F47-A1B4-5BD57F1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4BF99-A7C7-4DDA-85DF-F3AFEBB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7D9-3EFC-4E5F-A93E-E56CBC53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844CF-C398-471C-9812-3583FA6F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8FDEB-893E-4E26-BA97-9A2594F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5D4B4-F606-421F-ABD7-32B46EF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FAAC0-A0D5-4131-8925-4EF4C2B2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A1267-4CA1-4C8E-999A-B046DC17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F10-5D16-4B87-A61C-81C71B2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B1D-63EB-4914-BA0D-D37F8A3A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387-F9CF-4C1C-BB8B-3C4DCC47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CE5-961B-4DB4-90CD-74980F23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B26-4F74-4EF6-8363-E072E6C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2FB-8110-4EB7-AC22-41C8535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70E-DCC1-411C-8156-C128C47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8AF-E1FB-4533-B536-1B44F710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964-AB25-45A5-9FD9-56372ABF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239-1655-4237-9010-85AA5AD3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B195-F695-4A8C-9059-EB0D75CA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F5B5-1F01-4607-A9B8-77EC01AB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0DF5-92B0-4467-8F5E-5FFD3D6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DEF6-6A48-4BCD-915C-D26DB79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559A-7C49-4BBA-B361-3EDA265B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4D56-ECE9-4326-83EF-5B4E4A2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EA97-2214-4827-97A5-D32DF60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B56-84E4-4BEF-AF06-8AE5DDB4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CB83-A740-41FB-B052-AB07C71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41A8-6757-468D-8B0E-EC66FDA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168-7452-4178-AC4E-FE910A19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59A8-A0D8-43C4-8E68-F90E8529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EAE5-D596-4245-952F-DCAF0A07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2834-9F29-471A-BB87-7419742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0595-62A4-4560-AD47-D34A09A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1493-C343-40FC-B311-04118ECD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707C7-4E1A-42BB-95D2-9335E08A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6CD3-AD0D-43BF-AE13-0B1C838A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B950-BA68-4665-95CE-28491C3E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3846-5243-47F8-B501-62E4A46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1215-C9C0-4708-BE31-CB794CA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1632-6D61-49E5-A89E-8252F71B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B9A9-8E3B-4E9A-A3C1-1D51588A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FB2D-912E-4E79-98F4-B017FA69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B1CC-0FD4-4CD3-928B-CAB63659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02861-AC55-49D1-8041-6C236A03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C266-BD42-4363-8831-C633BD17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7708-942E-4CF3-836C-5AF347C1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2862-CDD6-4199-9BAB-0CA1FE5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6C951-364C-4ACF-8A47-CF0166D7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DDD1-DB17-49D9-A2D4-EA8C6C38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D909-FF03-44EC-ACE7-17E3F5E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F3E2-4C12-4296-BD8C-9E8B725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E7CD5-C99D-465D-B288-26951091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9081-09AA-47F3-B4A4-E004FBB1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1AB2-E72B-4D06-83EB-8D6C419A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9622-2F15-4A06-A731-AD73D203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3E75-34F0-4ED6-B010-3F9C5446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CC774-D595-4F93-8F6F-081F5E8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9822B-7642-492E-9012-181DF873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5251-E0A8-4552-813B-FD8232F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092B-AF5E-4285-A551-E1BD28B0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049A-8292-45E8-ADF1-14B1EBD0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8BF3-76BF-4CEA-A5D2-FBF1BAEA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04F4-643B-442E-9B48-FA1F059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E3913-5D52-4E8A-BBDA-4F69B3A5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1FED2-872C-43F3-9A8B-72114F1B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8C86-F98E-4724-B938-43913E08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22C8-8C81-4896-B229-1557F565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7805A-3286-4AAD-8533-31C73963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3614C-58FD-402D-95AC-3F015E6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C0FE-917B-4EAD-8A69-BC253D4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2945-378A-4D0D-98B0-B8028E0D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8F35-CF8C-478B-B6F8-4937005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5FC38-7187-4489-873A-8161320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B3D90-D16A-4348-9957-C4B5D8E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AB7D-0D99-461A-BB41-95490155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A09A-0E79-4164-8D7D-CC4F9FD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9011-0B22-4AB6-888C-BE10510C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D0BB-1F88-4920-B77C-FC7E74C5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B8A27-45A5-4692-8D2E-0BF78F4C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9D236-03B5-4352-B058-70584FF8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665F-E1CC-447D-9558-46C3839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FD979-FAD1-4E23-9703-6C4A28C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A001-0B0C-4733-9899-F01D5DFD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54FA0-CE34-4778-B0A3-DC727DD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5663C-5068-4AAA-AF6F-8AFF202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18801-6E91-45B6-806F-5AF1A64A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E2901-095A-40CA-BBC9-348E021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FFF85-CE27-47E0-BD6F-5AE689D1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A15B7-1AE6-4ADF-91C3-BF922AFB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3D10E-5FE8-4993-B681-765BE7BB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33726-E898-4975-9A2F-7F0CC5BE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65BA5-887C-4B7B-8B46-7C448AEA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98F3-3389-44AE-B9D7-29538C37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C31993E4-DE0D-4B66-864C-7BAD1B52A7B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21F80B1-A63F-4528-9BB9-F0327CAF16F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B411AB45-C55C-4230-A338-2A39DC7BD78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0E1E619F-C6F9-408F-ADB1-6F96660B12D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BE8DD29F-B49F-4469-A05B-4D8AA85B001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0480E571-DCD2-4DFA-9005-62204FB1779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305D1758-787C-4EED-910B-68925220D4F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C43F01C-2934-4FDC-9B3F-F537C63E75A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CB5884D8-30BE-427E-9112-54B75B537E4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A76A1B6C-4DEF-47E0-B6A3-219BACD865F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C2CC29C-C623-434D-880D-3AA65B55CA6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596880" y="1682640"/>
            <a:ext cx="2405160" cy="196236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≪フチなし≫官製はがき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赤い枠線で仕上が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フチなしにしたい部分は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ページの端まで伸ばして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松尾 亮</cp:lastModifiedBy>
  <dcterms:modified xsi:type="dcterms:W3CDTF">2020-03-11T07:04:26Z</dcterms:modified>
  <cp:revision>9</cp:revision>
  <dc:subject/>
  <dc:title>スライド 1</dc:title>
</cp:coreProperties>
</file>