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703675" cy="9431338"/>
  <p:notesSz cx="12444413" cy="8596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5200" y="376200"/>
            <a:ext cx="150332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5200" y="2206800"/>
            <a:ext cx="150332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835200" y="5064120"/>
            <a:ext cx="150332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5200" y="376200"/>
            <a:ext cx="150332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5200" y="2206800"/>
            <a:ext cx="733608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8538480" y="2206800"/>
            <a:ext cx="733608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5200" y="5064120"/>
            <a:ext cx="733608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8538480" y="5064120"/>
            <a:ext cx="733608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5200" y="376200"/>
            <a:ext cx="150332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5200" y="2206800"/>
            <a:ext cx="484056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18040" y="2206800"/>
            <a:ext cx="484056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001240" y="2206800"/>
            <a:ext cx="484056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835200" y="5064120"/>
            <a:ext cx="484056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5918040" y="5064120"/>
            <a:ext cx="484056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11001240" y="5064120"/>
            <a:ext cx="484056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5200" y="376200"/>
            <a:ext cx="150332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835200" y="2206800"/>
            <a:ext cx="150332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5200" y="376200"/>
            <a:ext cx="150332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5200" y="2206800"/>
            <a:ext cx="150332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5200" y="376200"/>
            <a:ext cx="150332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5200" y="2206800"/>
            <a:ext cx="733608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538480" y="2206800"/>
            <a:ext cx="733608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5200" y="376200"/>
            <a:ext cx="150332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835200" y="376200"/>
            <a:ext cx="15033240" cy="73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5200" y="376200"/>
            <a:ext cx="150332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5200" y="2206800"/>
            <a:ext cx="733608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8538480" y="2206800"/>
            <a:ext cx="733608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5200" y="5064120"/>
            <a:ext cx="733608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5200" y="376200"/>
            <a:ext cx="150332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5200" y="2206800"/>
            <a:ext cx="733608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538480" y="2206800"/>
            <a:ext cx="733608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538480" y="5064120"/>
            <a:ext cx="733608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5200" y="376200"/>
            <a:ext cx="150332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5200" y="2206800"/>
            <a:ext cx="733608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8538480" y="2206800"/>
            <a:ext cx="733608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835200" y="5064120"/>
            <a:ext cx="150332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1079640" y="4716360"/>
            <a:ext cx="14544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44"/>
          <p:cNvSpPr/>
          <p:nvPr/>
        </p:nvSpPr>
        <p:spPr>
          <a:xfrm>
            <a:off x="8298000" y="1260360"/>
            <a:ext cx="0" cy="6912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44"/>
          <p:cNvSpPr/>
          <p:nvPr/>
        </p:nvSpPr>
        <p:spPr>
          <a:xfrm>
            <a:off x="6048360" y="1079640"/>
            <a:ext cx="0" cy="7272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44"/>
          <p:cNvSpPr/>
          <p:nvPr/>
        </p:nvSpPr>
        <p:spPr>
          <a:xfrm>
            <a:off x="10655280" y="1079640"/>
            <a:ext cx="0" cy="7272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"/>
          <p:cNvSpPr/>
          <p:nvPr/>
        </p:nvSpPr>
        <p:spPr>
          <a:xfrm>
            <a:off x="1008000" y="1440000"/>
            <a:ext cx="14687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1332000" y="1008000"/>
            <a:ext cx="0" cy="7415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1440000" y="1008000"/>
            <a:ext cx="0" cy="7415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6"/>
          <p:cNvSpPr/>
          <p:nvPr/>
        </p:nvSpPr>
        <p:spPr>
          <a:xfrm>
            <a:off x="15263640" y="1008000"/>
            <a:ext cx="0" cy="7415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7"/>
          <p:cNvSpPr/>
          <p:nvPr/>
        </p:nvSpPr>
        <p:spPr>
          <a:xfrm>
            <a:off x="15371640" y="1008000"/>
            <a:ext cx="0" cy="7415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"/>
          <p:cNvSpPr/>
          <p:nvPr/>
        </p:nvSpPr>
        <p:spPr>
          <a:xfrm>
            <a:off x="1008000" y="1332000"/>
            <a:ext cx="14687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"/>
          <p:cNvSpPr/>
          <p:nvPr/>
        </p:nvSpPr>
        <p:spPr>
          <a:xfrm>
            <a:off x="1008000" y="8099280"/>
            <a:ext cx="14579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"/>
          <p:cNvSpPr/>
          <p:nvPr/>
        </p:nvSpPr>
        <p:spPr>
          <a:xfrm>
            <a:off x="1008000" y="8099280"/>
            <a:ext cx="14687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11"/>
          <p:cNvSpPr/>
          <p:nvPr/>
        </p:nvSpPr>
        <p:spPr>
          <a:xfrm>
            <a:off x="1332000" y="1332000"/>
            <a:ext cx="14039640" cy="6767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9720" bIns="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186"/>
          <p:cNvSpPr/>
          <p:nvPr/>
        </p:nvSpPr>
        <p:spPr>
          <a:xfrm>
            <a:off x="1440000" y="1440000"/>
            <a:ext cx="13823640" cy="655164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9720" bIns="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203"/>
          <p:cNvSpPr/>
          <p:nvPr/>
        </p:nvSpPr>
        <p:spPr>
          <a:xfrm>
            <a:off x="10655280" y="1332000"/>
            <a:ext cx="0" cy="676728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4"/>
          <p:cNvSpPr/>
          <p:nvPr/>
        </p:nvSpPr>
        <p:spPr>
          <a:xfrm>
            <a:off x="6048360" y="1332000"/>
            <a:ext cx="0" cy="676728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74"/>
          <p:cNvSpPr/>
          <p:nvPr/>
        </p:nvSpPr>
        <p:spPr>
          <a:xfrm>
            <a:off x="5519880" y="900000"/>
            <a:ext cx="10792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Text Box 75"/>
          <p:cNvSpPr/>
          <p:nvPr/>
        </p:nvSpPr>
        <p:spPr>
          <a:xfrm>
            <a:off x="10115640" y="900000"/>
            <a:ext cx="10792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99"/>
          <p:cNvSpPr/>
          <p:nvPr/>
        </p:nvSpPr>
        <p:spPr>
          <a:xfrm>
            <a:off x="15602040" y="2700360"/>
            <a:ext cx="936360" cy="1297080"/>
          </a:xfrm>
          <a:prstGeom prst="wedgeRoundRectCallout">
            <a:avLst>
              <a:gd name="adj1" fmla="val -75023"/>
              <a:gd name="adj2" fmla="val -36023"/>
              <a:gd name="adj3" fmla="val 16667"/>
            </a:avLst>
          </a:prstGeom>
          <a:solidFill>
            <a:srgbClr val="ffffff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フチなし印刷は塗足しが必要ですので、青い線まで必ず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100"/>
          <p:cNvSpPr/>
          <p:nvPr/>
        </p:nvSpPr>
        <p:spPr>
          <a:xfrm>
            <a:off x="15563880" y="1908000"/>
            <a:ext cx="745920" cy="576360"/>
          </a:xfrm>
          <a:prstGeom prst="wedgeRoundRectCallout">
            <a:avLst>
              <a:gd name="adj1" fmla="val -89805"/>
              <a:gd name="adj2" fmla="val -39518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赤い線が仕上がり線で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104"/>
          <p:cNvSpPr/>
          <p:nvPr/>
        </p:nvSpPr>
        <p:spPr>
          <a:xfrm>
            <a:off x="1457280" y="85680"/>
            <a:ext cx="40338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just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規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6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仕上がりの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つ折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折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展開サイズ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4×182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仕上がりサイズ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8×182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Text Box 74"/>
          <p:cNvSpPr/>
          <p:nvPr/>
        </p:nvSpPr>
        <p:spPr>
          <a:xfrm>
            <a:off x="3097080" y="1044720"/>
            <a:ext cx="1152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28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74"/>
          <p:cNvSpPr/>
          <p:nvPr/>
        </p:nvSpPr>
        <p:spPr>
          <a:xfrm>
            <a:off x="7731000" y="1044720"/>
            <a:ext cx="1152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28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Text Box 74"/>
          <p:cNvSpPr/>
          <p:nvPr/>
        </p:nvSpPr>
        <p:spPr>
          <a:xfrm>
            <a:off x="12457080" y="1044720"/>
            <a:ext cx="1152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28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Text Box 155"/>
          <p:cNvSpPr/>
          <p:nvPr/>
        </p:nvSpPr>
        <p:spPr>
          <a:xfrm>
            <a:off x="1440000" y="8640720"/>
            <a:ext cx="467496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★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フチ無し印刷をご希望の場合は、外側の青い線まで色や写真を配置してください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★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透過性や半透明、パターンなどは正常に変換出来ない場合があります。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★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用紙サイズや余白、トンボなどは、変更・移動されないようお願いいたし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Line 1"/>
          <p:cNvSpPr/>
          <p:nvPr/>
        </p:nvSpPr>
        <p:spPr>
          <a:xfrm>
            <a:off x="1008000" y="7991640"/>
            <a:ext cx="14687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Text Box 2"/>
          <p:cNvSpPr/>
          <p:nvPr/>
        </p:nvSpPr>
        <p:spPr>
          <a:xfrm>
            <a:off x="5592600" y="187200"/>
            <a:ext cx="214488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0" rIns="72000" tIns="72000" bIns="72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このレイアウト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外３つ折（Ｚ折）用で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" name="図 60" descr="C:\Users\Ex-Image-L\Desktop\ワードテンプレート\ori_z.gif"/>
          <p:cNvPicPr/>
          <p:nvPr/>
        </p:nvPicPr>
        <p:blipFill>
          <a:blip r:embed="rId2"/>
          <a:stretch/>
        </p:blipFill>
        <p:spPr>
          <a:xfrm>
            <a:off x="5761080" y="217440"/>
            <a:ext cx="415800" cy="522360"/>
          </a:xfrm>
          <a:prstGeom prst="rect">
            <a:avLst/>
          </a:prstGeom>
          <a:ln w="0">
            <a:noFill/>
          </a:ln>
        </p:spPr>
      </p:pic>
      <p:pic>
        <p:nvPicPr>
          <p:cNvPr id="28" name="図 52" descr=""/>
          <p:cNvPicPr/>
          <p:nvPr/>
        </p:nvPicPr>
        <p:blipFill>
          <a:blip r:embed="rId3"/>
          <a:stretch/>
        </p:blipFill>
        <p:spPr>
          <a:xfrm>
            <a:off x="13225320" y="152280"/>
            <a:ext cx="1855800" cy="91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>Ex-Image-L</dc:creator>
  <dc:description/>
  <dc:language>en-US</dc:language>
  <cp:lastModifiedBy>松尾 亮</cp:lastModifiedBy>
  <dcterms:modified xsi:type="dcterms:W3CDTF">2020-06-03T00:46:15Z</dcterms:modified>
  <cp:revision>20</cp:revision>
  <dc:subject/>
  <dc:title>スライド 1</dc:title>
</cp:coreProperties>
</file>