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5327650" cy="3600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A2B40-3AA8-4B90-99E7-E6ACAF84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C3DAE-55F0-4FE6-ACB0-1608AE68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65E62-1409-4B81-A89B-24ABF838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27F7A-090A-4126-8DFF-92BE4815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D68F3-69A1-41E8-B63A-37A7472A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92589-C3CB-452D-9D5E-467ECA13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589DF-A4F5-4DCA-90DB-D5B01D7A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F1259-D435-4147-9FD5-0B526083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D9AC3-D528-47AD-9E21-216BE33E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0D45B-CFDE-41D5-B8C3-8230990C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56161-9DB1-4BCA-B5CD-F7E52E23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04F30-19D1-4307-BD92-FD0B925A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4C099-2397-4B55-8491-C53BBB78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DB45B-A3F9-4FDD-9C61-FBCA706A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DD450-0DFB-4B7E-B055-EC6D0C73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41AF4-B20C-458F-B1C7-41467C44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8C7A0-F945-4780-9A59-3FDDE44E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91A2C-6C27-4690-AAC2-9C8958BF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44A2F-D89D-47B0-9086-6864C80C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05421-F91D-458A-835D-85568476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D5DE8-3E19-4E45-BEBC-4337F061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681A5-7887-4CC9-ACD6-1A5158B8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B9AA6-81E0-4D20-A78B-FC2F4700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53D91-7B6E-49B6-A7B9-B136A31F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3107A-C224-497C-84FA-AA3A83A9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78343-E0E6-45CB-ADFE-6E8CA0CF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F7873-0526-41FC-B19F-FC96223E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EBF2C-DB62-4492-BA0A-827ABA8B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6432A-4752-402F-890A-FE29F2B6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FA33B-071A-421A-BDDD-5FEE247F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6E4-EB97-4E4B-AB2D-56EE1BF4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F40ED-E68A-4423-B889-88CEDFA3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A114D-3569-4303-B87B-113E08E9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97C7B-26D9-4671-B218-1701A93F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D1972-EC2B-4F26-887D-6DA9F77D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4BC0A-99C5-4335-901C-EEA8AA0B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F5E5B-0909-4202-9EC1-7E13D36B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2D53D-8289-448B-8CD5-7F5E5C58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E92BA-C34A-40E5-BEF8-5580B344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4FE44-29AF-4D61-A90E-BB44DA45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66F70-A89F-45D3-BCF1-D1483A4C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9D1C-2B2B-432D-A79C-FE7D6749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24133-26F4-4F85-BB59-91502398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8F8BE-82F7-42D1-A0EA-DEA0DCEA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C36BB-D9C9-42D1-B4C2-09BD5EC4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B1F53-AFD9-4A46-80F1-FA1A867B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8CDAB-449F-48A4-8C10-518B09EF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62A-9170-4466-9499-859FA447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19A8-33F8-47B9-88BD-E05515CB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35C-FF25-4D5F-9C09-65CF7302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164-CFCB-4CD5-911F-74AE8045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EAE3-96AC-4406-9B5A-03A64E0F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CCF-4507-42D8-850C-1960699F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88F-26CF-4461-981E-F690E080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D4B-5AEF-4D43-84E7-8E004159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C64-24D1-48CE-AC8A-63491A2E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CA5-1570-4430-BE64-4772308D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BA7D-4780-4EE9-9F14-0C7B26E4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B522-02C5-40C9-B6C6-721F3C55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9E71-84B5-448A-9220-FF188D89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3E01-AB00-42BF-B266-8B59BE5D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ABF7-F71E-4E42-9D33-F509A91C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0897-9371-4750-83A3-EC9427A6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DCD5-AF07-43EB-93E8-74862067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0CA7-D4B7-4343-9736-B816CC9B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7113-5527-4294-9AB6-E733B825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8D1F-8EC6-4E94-B7A9-D51ECC10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9BA7-CB19-44F3-91DA-35E2DFB3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2DA8-7AE9-46E9-B09B-D3D64D04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7A8DE-FFDB-40DC-8AB6-74F48E7A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C85EF-7147-4914-8912-FAD74202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24DFA-C5F7-4E7A-9359-7EF42301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830B3-AF09-4527-812E-D6847946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03F75-8C12-4293-B009-44E2E143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2FC66-7EFA-488C-94A1-06B42966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2244-FA19-4F55-92AA-D1E3A4CB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88237-B4FF-4B04-BAE0-22F8FF97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9C66C-DC2A-4EEC-B1E9-C783563D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B3FD8-D0C1-40D4-B1D6-8D70F2DA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A2CD1-A632-437D-8452-564AD234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8DA83-4459-482F-A3BF-824A44D5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5506F-BFB4-4E24-B0EE-51B65737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EC418-7841-4FBE-BE19-D3A160F2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6E9C7-3741-4050-A6A4-F6B2B58C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1A46F-2A7C-4383-B090-A82892BB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20EB0-1B70-4D80-B164-DD01B223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8893A-5D6D-4277-8425-D333EB33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51525-EBD6-4D34-978B-34535012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67C5B-ADE7-4664-A6F7-C2589378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11C81-E816-45FF-8A6D-FC9A5DE3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3B18A-82BB-498D-A077-79ACA85D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0C5AC-D0AC-499E-B1CE-EAA4715C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36B68-C4D7-4F44-BFA3-43862B94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294A4-04D6-46D7-802F-D543B109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1E0C2-1D86-421D-970F-85EB1FA4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B32EE-AEED-42D7-88E3-42FE9A42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0FB92-4249-4544-A649-6F9F46C6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DDAB3-6808-4B71-9964-8556B46D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06C47-73D8-4177-81FD-F3221D1F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F9331-1F35-4E98-A8A8-28E75D79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D7A6A-6C6B-4E18-A54B-05101BC8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7C574-72E3-4065-A816-F04C7453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3D946-8CF0-4FA3-AA43-8A27679C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FC0B9-B1D9-408F-A04C-409D3513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B7A4B-B26E-4F7C-8DD0-FA49E331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96B6D-A643-4281-AB67-6114FC19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8288C-08C1-463F-9C67-F74C83CE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443BC-1623-444C-A322-00E48803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42638-B690-4E6F-B2E9-085B62E7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5F9FF-21E9-4F03-BDFC-09F3FC5F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34C6E-90F9-4448-9EB7-7A26F74D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7796B-AB14-4D53-878E-B15A339A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4A8BA-A5B2-482C-8BAD-89A3BEE7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E6F49-EF73-48E6-A632-0E7336C4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12302-0388-401A-83B8-38769619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23254-F948-45FC-A2B6-68ECB9C2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5BCC8-5DF7-47B7-8985-FECB18E3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C40A0-6A25-4829-9315-35D1B2DC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F19DB-4A15-493B-A387-F5333EF0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F5B4C-5D1E-48F3-B087-8A9909F7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5DC5D-79BA-4756-A1B8-927C98A4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BEC38-7C63-43D4-AF44-DC0BE6E5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0517B-F6C2-400C-8ABA-02758550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F6D50-6171-4949-BD96-2CCD18CB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D6C7A-5B10-4ECC-BA94-2B13F427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209EA-BF2E-43D9-AAD5-FF468A54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BFF15-C1E6-4221-9F3B-D102A974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D27AD-E064-4576-AD93-9ADF4B9B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C4CC1-EC95-4CFE-B8F2-02CDE2DA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39C93-1868-4F63-B6C6-80EC1080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AD0B1-6665-4BA4-82A5-DB7D855D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95D2C-ED69-49A1-8B9A-D08BB50D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04"/>
          <p:cNvSpPr/>
          <p:nvPr/>
        </p:nvSpPr>
        <p:spPr>
          <a:xfrm>
            <a:off x="0" y="108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Line 204"/>
          <p:cNvSpPr/>
          <p:nvPr/>
        </p:nvSpPr>
        <p:spPr>
          <a:xfrm>
            <a:off x="0" y="3492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Line 204"/>
          <p:cNvSpPr/>
          <p:nvPr/>
        </p:nvSpPr>
        <p:spPr>
          <a:xfrm>
            <a:off x="10800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Line 204"/>
          <p:cNvSpPr/>
          <p:nvPr/>
        </p:nvSpPr>
        <p:spPr>
          <a:xfrm>
            <a:off x="521964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Line 204"/>
          <p:cNvSpPr/>
          <p:nvPr/>
        </p:nvSpPr>
        <p:spPr>
          <a:xfrm>
            <a:off x="0" y="108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204"/>
          <p:cNvSpPr/>
          <p:nvPr/>
        </p:nvSpPr>
        <p:spPr>
          <a:xfrm>
            <a:off x="0" y="3492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Line 204"/>
          <p:cNvSpPr/>
          <p:nvPr/>
        </p:nvSpPr>
        <p:spPr>
          <a:xfrm>
            <a:off x="10800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Line 204"/>
          <p:cNvSpPr/>
          <p:nvPr/>
        </p:nvSpPr>
        <p:spPr>
          <a:xfrm>
            <a:off x="521964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dt" idx="25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6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7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D09A5A5D-E9FB-414E-9A9D-19184A897FE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204"/>
          <p:cNvSpPr/>
          <p:nvPr/>
        </p:nvSpPr>
        <p:spPr>
          <a:xfrm>
            <a:off x="0" y="108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Line 204"/>
          <p:cNvSpPr/>
          <p:nvPr/>
        </p:nvSpPr>
        <p:spPr>
          <a:xfrm>
            <a:off x="0" y="3492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Line 204"/>
          <p:cNvSpPr/>
          <p:nvPr/>
        </p:nvSpPr>
        <p:spPr>
          <a:xfrm>
            <a:off x="10800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Line 204"/>
          <p:cNvSpPr/>
          <p:nvPr/>
        </p:nvSpPr>
        <p:spPr>
          <a:xfrm>
            <a:off x="521964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dt" idx="28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29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30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5B71F8D5-B651-438A-AE1F-76B085A6B6DE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Line 204"/>
          <p:cNvSpPr/>
          <p:nvPr/>
        </p:nvSpPr>
        <p:spPr>
          <a:xfrm>
            <a:off x="0" y="108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Line 204"/>
          <p:cNvSpPr/>
          <p:nvPr/>
        </p:nvSpPr>
        <p:spPr>
          <a:xfrm>
            <a:off x="0" y="3492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Line 204"/>
          <p:cNvSpPr/>
          <p:nvPr/>
        </p:nvSpPr>
        <p:spPr>
          <a:xfrm>
            <a:off x="10800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Line 204"/>
          <p:cNvSpPr/>
          <p:nvPr/>
        </p:nvSpPr>
        <p:spPr>
          <a:xfrm>
            <a:off x="521964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dt" idx="31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ftr" idx="32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Num" idx="33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7D5E6B5B-EBED-413B-AFB0-EC0956B0C06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04"/>
          <p:cNvSpPr/>
          <p:nvPr/>
        </p:nvSpPr>
        <p:spPr>
          <a:xfrm>
            <a:off x="0" y="108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Line 204"/>
          <p:cNvSpPr/>
          <p:nvPr/>
        </p:nvSpPr>
        <p:spPr>
          <a:xfrm>
            <a:off x="0" y="3492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204"/>
          <p:cNvSpPr/>
          <p:nvPr/>
        </p:nvSpPr>
        <p:spPr>
          <a:xfrm>
            <a:off x="10800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204"/>
          <p:cNvSpPr/>
          <p:nvPr/>
        </p:nvSpPr>
        <p:spPr>
          <a:xfrm>
            <a:off x="521964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1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2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1379A932-14B1-42F1-A5E5-189660A03F2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4360" indent="-158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36480" indent="-1267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892080" indent="-1270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5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6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04"/>
          <p:cNvSpPr/>
          <p:nvPr/>
        </p:nvSpPr>
        <p:spPr>
          <a:xfrm>
            <a:off x="0" y="108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204"/>
          <p:cNvSpPr/>
          <p:nvPr/>
        </p:nvSpPr>
        <p:spPr>
          <a:xfrm>
            <a:off x="0" y="3492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204"/>
          <p:cNvSpPr/>
          <p:nvPr/>
        </p:nvSpPr>
        <p:spPr>
          <a:xfrm>
            <a:off x="10800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204"/>
          <p:cNvSpPr/>
          <p:nvPr/>
        </p:nvSpPr>
        <p:spPr>
          <a:xfrm>
            <a:off x="521964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dt" idx="4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ftr" idx="5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6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0CC070C3-D89F-4301-9ED1-68EF057E454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ine 204"/>
          <p:cNvSpPr/>
          <p:nvPr/>
        </p:nvSpPr>
        <p:spPr>
          <a:xfrm>
            <a:off x="0" y="108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204"/>
          <p:cNvSpPr/>
          <p:nvPr/>
        </p:nvSpPr>
        <p:spPr>
          <a:xfrm>
            <a:off x="0" y="3492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Line 204"/>
          <p:cNvSpPr/>
          <p:nvPr/>
        </p:nvSpPr>
        <p:spPr>
          <a:xfrm>
            <a:off x="10800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204"/>
          <p:cNvSpPr/>
          <p:nvPr/>
        </p:nvSpPr>
        <p:spPr>
          <a:xfrm>
            <a:off x="521964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dt" idx="7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ftr" idx="8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9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1751F079-A606-404C-8384-FB856210FAA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Line 204"/>
          <p:cNvSpPr/>
          <p:nvPr/>
        </p:nvSpPr>
        <p:spPr>
          <a:xfrm>
            <a:off x="0" y="108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204"/>
          <p:cNvSpPr/>
          <p:nvPr/>
        </p:nvSpPr>
        <p:spPr>
          <a:xfrm>
            <a:off x="0" y="3492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204"/>
          <p:cNvSpPr/>
          <p:nvPr/>
        </p:nvSpPr>
        <p:spPr>
          <a:xfrm>
            <a:off x="10800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204"/>
          <p:cNvSpPr/>
          <p:nvPr/>
        </p:nvSpPr>
        <p:spPr>
          <a:xfrm>
            <a:off x="521964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dt" idx="10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1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2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66DE5E89-AAF3-4AA7-9C10-B9946C456FB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204"/>
          <p:cNvSpPr/>
          <p:nvPr/>
        </p:nvSpPr>
        <p:spPr>
          <a:xfrm>
            <a:off x="0" y="108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204"/>
          <p:cNvSpPr/>
          <p:nvPr/>
        </p:nvSpPr>
        <p:spPr>
          <a:xfrm>
            <a:off x="0" y="3492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Line 204"/>
          <p:cNvSpPr/>
          <p:nvPr/>
        </p:nvSpPr>
        <p:spPr>
          <a:xfrm>
            <a:off x="10800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Line 204"/>
          <p:cNvSpPr/>
          <p:nvPr/>
        </p:nvSpPr>
        <p:spPr>
          <a:xfrm>
            <a:off x="521964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dt" idx="13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ftr" idx="14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5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5412101D-92C9-42EC-87C0-A4849174A04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04"/>
          <p:cNvSpPr/>
          <p:nvPr/>
        </p:nvSpPr>
        <p:spPr>
          <a:xfrm>
            <a:off x="0" y="108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Line 204"/>
          <p:cNvSpPr/>
          <p:nvPr/>
        </p:nvSpPr>
        <p:spPr>
          <a:xfrm>
            <a:off x="0" y="3492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Line 204"/>
          <p:cNvSpPr/>
          <p:nvPr/>
        </p:nvSpPr>
        <p:spPr>
          <a:xfrm>
            <a:off x="10800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204"/>
          <p:cNvSpPr/>
          <p:nvPr/>
        </p:nvSpPr>
        <p:spPr>
          <a:xfrm>
            <a:off x="521964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1765C3F8-0A97-409C-ACC0-2261F6847CE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04"/>
          <p:cNvSpPr/>
          <p:nvPr/>
        </p:nvSpPr>
        <p:spPr>
          <a:xfrm>
            <a:off x="0" y="108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Line 204"/>
          <p:cNvSpPr/>
          <p:nvPr/>
        </p:nvSpPr>
        <p:spPr>
          <a:xfrm>
            <a:off x="0" y="3492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Line 204"/>
          <p:cNvSpPr/>
          <p:nvPr/>
        </p:nvSpPr>
        <p:spPr>
          <a:xfrm>
            <a:off x="10800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Line 204"/>
          <p:cNvSpPr/>
          <p:nvPr/>
        </p:nvSpPr>
        <p:spPr>
          <a:xfrm>
            <a:off x="521964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dt" idx="19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ftr" idx="20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21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8A8795BA-97A8-4C78-A7CF-EFD60140A74F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Line 204"/>
          <p:cNvSpPr/>
          <p:nvPr/>
        </p:nvSpPr>
        <p:spPr>
          <a:xfrm>
            <a:off x="0" y="108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Line 204"/>
          <p:cNvSpPr/>
          <p:nvPr/>
        </p:nvSpPr>
        <p:spPr>
          <a:xfrm>
            <a:off x="0" y="3492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Line 204"/>
          <p:cNvSpPr/>
          <p:nvPr/>
        </p:nvSpPr>
        <p:spPr>
          <a:xfrm>
            <a:off x="10800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ine 204"/>
          <p:cNvSpPr/>
          <p:nvPr/>
        </p:nvSpPr>
        <p:spPr>
          <a:xfrm>
            <a:off x="521964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dt" idx="22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ftr" idx="23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24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6F2904AA-B4DA-4A34-AE13-6108041A5CB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1440000" y="1008000"/>
            <a:ext cx="2404800" cy="1559160"/>
          </a:xfrm>
          <a:prstGeom prst="rect">
            <a:avLst/>
          </a:prstGeom>
          <a:solidFill>
            <a:srgbClr val="db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 u="sng">
                <a:solidFill>
                  <a:srgbClr val="000000"/>
                </a:solidFill>
                <a:uFillTx/>
                <a:latin typeface="ＭＳ Ｐゴシック"/>
                <a:ea typeface="ＭＳ Ｐゴシック"/>
              </a:rPr>
              <a:t>オフセット官製はがき専用テンプレート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上下左右のいずれか</a:t>
            </a:r>
            <a:r>
              <a:rPr b="1" lang="en-US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1</a:t>
            </a: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辺に</a:t>
            </a:r>
            <a:r>
              <a:rPr b="1" lang="en-US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10mm</a:t>
            </a: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その他の</a:t>
            </a:r>
            <a:r>
              <a:rPr b="1" lang="en-US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3</a:t>
            </a: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辺にそれぞれ</a:t>
            </a:r>
            <a:r>
              <a:rPr b="1" lang="en-US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3mm</a:t>
            </a: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の余白が必要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ガイド（青い点線）を参考にデザインして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ガイドは印刷されません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はしないで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このボックスはデザイン作成時に削除してかまいません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3T22:53:30Z</dcterms:created>
  <dc:creator>matsuo-print.com</dc:creator>
  <dc:description/>
  <dc:language>en-US</dc:language>
  <cp:lastModifiedBy>matsuo-print.com</cp:lastModifiedBy>
  <dcterms:modified xsi:type="dcterms:W3CDTF">2018-06-14T08:14:47Z</dcterms:modified>
  <cp:revision>9</cp:revision>
  <dc:subject/>
  <dc:title>スライド 1</dc:title>
</cp:coreProperties>
</file>