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3600450" cy="5327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EE6F9-AD42-4703-BB42-0E560563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6D127-7291-46B2-A7DC-0C289E37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5BDD4-6BD5-474F-BA20-538C5F75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005BE-2C4F-4B66-AC8B-096D5BD6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3728C-1E1D-4277-B295-2DB93B4B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40D88-A31F-42C2-A73F-41673697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3C4B7-818C-46D9-9CE3-82192A54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98B9C-1447-4100-9F1F-0C29EBCE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EE4D2-9638-4639-9851-CA51BD20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4806F-D0A7-4D04-8E8A-E5C366FD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53FAC-755B-4147-A7B4-F77A816D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FDF82-8AED-4211-AE12-3B2D31B7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DD276-B0AF-43FC-9661-BC5A24AB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49CBA-B51B-4FBE-9831-BD83DF0C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6E4F8-3E6A-42F1-BAF6-30232604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B05C9-042B-48A9-B769-A722384E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D4A13-72E5-4677-89B4-71BA9BAC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5119C-C71A-4B5F-82ED-6D96559D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66AD3-8B2F-4C31-8D16-89ED400D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DE510-008B-482D-9CED-453432C0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E4021-30B9-455A-91AE-D7F606F4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A50EC-F39C-4654-B60B-0AF65A09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E811E-BC90-481B-9794-54AE9C83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84C96-6DB9-4DA5-A0EB-B74C06A4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CD5D4-6B7B-47A8-8A36-66894E6F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DD0DA-8B70-40C3-A262-1A2C3CCB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EBC48-1016-41CB-9824-16BDA72C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80081-03B3-4068-B218-BA838164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0D2A2-55B6-4534-8E8F-CE1C9A8E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CB48D-25A9-496F-AAEF-D1D2BB23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1BB-66F4-4275-A8E7-A5E0BE45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BABFE-165D-46A9-B69B-93CBE5E0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E9362-DC22-4BE1-82C9-82EC24D1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AB6EA-4BB8-4E04-84F8-563AE706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481BF-7FDF-45E6-A6B2-5870858B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48DF0-0E94-4397-AEF0-CDCAFA3A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9AAC4-C013-4059-ACEA-2AE76F1F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9BB2F-9C4F-44FD-82A4-E5CF2467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33442-3CDD-46DA-B2B9-9A3A88C2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22B4E-F1C7-49EC-8196-F3630D8F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89687-B387-47A6-AD7C-1B2E3F64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CB8-B3F3-40D1-BEC7-55E3AB82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2FA03-0359-4503-A3CC-D69BAC2D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31CF8-7BF8-4937-95CC-8D8CF957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9B491-95E5-4A5F-BDE2-1A5C22CA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4722F-E323-4406-874F-A7974A5A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1B507-624C-432D-824F-B164DC83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8C2-AF37-4D15-9128-D8D50B0A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373-4F79-4E5F-89C5-BE3CDFBA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63D-2B6C-4F41-8025-C7471071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F42-881D-4B72-BD92-05CF21A5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D37-8B5F-416C-900C-1DE6BE66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B61-2037-45B1-A230-AD789F17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4BF-AD3F-4DC5-85A9-17477283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916-39C9-49EB-A3C4-92AEEBA2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113-2E26-4FB4-9C70-FB7D5EDE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13D-680A-420E-9CC6-0890CD23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FCE3-7C4F-45D9-881B-8073D92C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7C85-70B9-4682-97D7-0ACB1253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5818-23BF-4C1A-94BB-E4C12C88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5EF7-4893-4729-BC78-53C2D5A3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3B8F-85B5-40A5-82E2-3F24D470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04B6-AD82-41F9-B50F-D4D1B78A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6D31-D185-47A6-B415-5F226C80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79DD-A1BA-477E-BE00-54F8CE5D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FDF3-B332-4F00-8A78-B4B72621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8A88-E3C6-4D39-83BB-D236E6CB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F9D2-89D9-4E14-B7B0-A22469E7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273C-F63A-46F0-A5A6-B59E7633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A7698-38AC-49A8-9D2F-4A2B1D1F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1F72B-95CA-49FB-AF42-30008C25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CBA96-2866-4EE3-885F-0BA07194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E648-20AE-490E-B36C-6EB8C054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F4EDB-BE06-416A-9703-FDCA453C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15496-01D4-43B9-8246-16EE1662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75980-71D0-417A-A6ED-8C696108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CD4ED-ABC8-43AB-8D3B-5F262FD8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A8581-C6DD-4622-82FD-D93EB195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BF8D-2581-4305-A8C9-0B439A18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2F76C-04F5-4D73-8F38-AA00872E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6F54A-63A2-4967-A9BE-BD712B0C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C4B16-D0F5-4472-8B0A-DB156A9A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E91CA-5E47-48C6-A37B-7CA481F2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4A917-17A8-4A6A-8DDF-4437788C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D46AE-17B2-4FF2-9304-BC583AD4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F9FCC-3169-4D88-9CB0-7C0AA937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22CC-7DC1-420B-A350-B8BA44A7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DF8E6-92B7-49D9-9633-C87E2CBE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5B738-C9DF-47A2-871A-32063C3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2D41D-0B1A-413D-9066-3CACB3B8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65B55-2518-4076-B9AF-45C8F9AB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8342B-4802-416D-AB1B-23EF2942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692B7-69A8-4E1F-8830-1B41A4F1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02FE8-E684-4620-B27A-82CC6625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8BA6C-B5AD-4481-B24E-F1D8474F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0B48E-F96B-4D61-820D-0BC2235E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939A7-BF5C-4C88-9B15-00E5BB82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98156-5A62-47B4-AA41-F26C21A2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D5219-FC55-4CF3-951C-5BDC1062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69EFF-9789-4824-A080-6495774F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E5F9C-6B00-42CF-807F-AFB4F495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57F42-B9CE-4A82-AE1B-2DAE0DED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260A6-E7CC-442E-8020-190D1A2A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AE73C-3A75-4B88-AC74-18539F9D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99FF0-DF1B-4AEB-A7CC-3D86B3F8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41330-831F-4097-B85C-1C48F3BB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6E5C4-8D6F-428F-A0AB-04AD601F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9FC55-2FB2-47EB-ADD7-1726EA35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5D834-9541-4B34-A372-F4421675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63C61-FD21-497D-A381-4E01630C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083B9-10DE-493E-99D4-239B8660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E74B3-D27D-4881-95FD-273D8D57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0E3D3-F2B1-4672-B4FE-7ACE8B5E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E3BFA-8DD2-4ADC-86AC-266E341C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56B26-E929-48F6-A04B-BFAD9EE2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6B2BA-FC1D-4095-90AF-59372E13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07099-FA9D-4A99-B828-26368586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7B62D-07CC-4A92-A44B-40986C81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CCFBC-22E9-4024-B735-0080D7CD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4A9AF-5A66-40CA-AF91-2ECCF05A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BC69C-7484-443E-997C-32AB6B8A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C8405-CC1C-450E-BED0-4C02A156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39257-7B04-4551-B2FC-C1044D3A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C8147-AD15-495C-AE6B-A29350BF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8FA28-2B31-4B03-BF69-55E04B5C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633A6-413F-4C63-886D-AF7D8550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4EA7B-CDB2-4082-BBAB-2BDC919B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31FD6-4A5D-4C69-AF77-C3B6FF92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76C67-0A00-4533-B74D-D015EB1A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2AE43-E0F0-44B2-8D6B-E92AF5CD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F6614-3EE4-4D00-84B7-EDF6571D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83B52-71C6-49E8-8D03-3B58DFE7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1" name="正方形/長方形 12"/>
          <p:cNvSpPr/>
          <p:nvPr/>
        </p:nvSpPr>
        <p:spPr>
          <a:xfrm>
            <a:off x="108000" y="2664000"/>
            <a:ext cx="3384360" cy="2555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369" name="正方形/長方形 12"/>
          <p:cNvSpPr/>
          <p:nvPr/>
        </p:nvSpPr>
        <p:spPr>
          <a:xfrm>
            <a:off x="108000" y="2664000"/>
            <a:ext cx="3384360" cy="2555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dt" idx="25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6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7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49ECD2B1-D91D-46D5-907E-C15284C31E8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410" name="正方形/長方形 12"/>
          <p:cNvSpPr/>
          <p:nvPr/>
        </p:nvSpPr>
        <p:spPr>
          <a:xfrm>
            <a:off x="108000" y="2664000"/>
            <a:ext cx="3384360" cy="2555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dt" idx="28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9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30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B10F13A8-9CA0-4CD7-9DFC-273D5EF2652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451" name="正方形/長方形 12"/>
          <p:cNvSpPr/>
          <p:nvPr/>
        </p:nvSpPr>
        <p:spPr>
          <a:xfrm>
            <a:off x="108000" y="2664000"/>
            <a:ext cx="3384360" cy="2555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dt" idx="31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32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3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4537AC10-5CAC-45B6-BD25-77932AC542C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39" name="正方形/長方形 12"/>
          <p:cNvSpPr/>
          <p:nvPr/>
        </p:nvSpPr>
        <p:spPr>
          <a:xfrm>
            <a:off x="108000" y="2664000"/>
            <a:ext cx="3384360" cy="2555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2CF7D6BE-E355-4211-9F2E-3E84860834A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4360" indent="-15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36480" indent="-1267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892080" indent="-1270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82" name="正方形/長方形 12"/>
          <p:cNvSpPr/>
          <p:nvPr/>
        </p:nvSpPr>
        <p:spPr>
          <a:xfrm>
            <a:off x="108000" y="2664000"/>
            <a:ext cx="3384360" cy="2555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4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5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3425CB2F-359F-45AE-9A6A-6A43E7A7787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123" name="正方形/長方形 12"/>
          <p:cNvSpPr/>
          <p:nvPr/>
        </p:nvSpPr>
        <p:spPr>
          <a:xfrm>
            <a:off x="108000" y="2664000"/>
            <a:ext cx="3384360" cy="2555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dt" idx="7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8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9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05FCC1F9-0D28-4307-98EE-85F9A77EBDC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164" name="正方形/長方形 12"/>
          <p:cNvSpPr/>
          <p:nvPr/>
        </p:nvSpPr>
        <p:spPr>
          <a:xfrm>
            <a:off x="108000" y="2664000"/>
            <a:ext cx="3384360" cy="2555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dt" idx="10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11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2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B1B7F7AE-7D86-4735-83AA-F109D87E49B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205" name="正方形/長方形 12"/>
          <p:cNvSpPr/>
          <p:nvPr/>
        </p:nvSpPr>
        <p:spPr>
          <a:xfrm>
            <a:off x="108000" y="2664000"/>
            <a:ext cx="3384360" cy="2555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dt" idx="13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B2EF6B6A-D248-4941-90D1-3CACD685B9C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246" name="正方形/長方形 12"/>
          <p:cNvSpPr/>
          <p:nvPr/>
        </p:nvSpPr>
        <p:spPr>
          <a:xfrm>
            <a:off x="108000" y="2664000"/>
            <a:ext cx="3384360" cy="2555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dt" idx="16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7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8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4C4C35FB-7C1A-42A5-85AF-9909A284443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287" name="正方形/長方形 12"/>
          <p:cNvSpPr/>
          <p:nvPr/>
        </p:nvSpPr>
        <p:spPr>
          <a:xfrm>
            <a:off x="108000" y="2664000"/>
            <a:ext cx="3384360" cy="2555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dt" idx="19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20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21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891B458C-9703-4F7D-8943-2EB2B0A3728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328" name="正方形/長方形 12"/>
          <p:cNvSpPr/>
          <p:nvPr/>
        </p:nvSpPr>
        <p:spPr>
          <a:xfrm>
            <a:off x="108000" y="2664000"/>
            <a:ext cx="3384360" cy="2555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dt" idx="22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3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4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16EC2964-9FAE-42E2-9B3E-97654BCB180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538200" y="1117440"/>
            <a:ext cx="2519280" cy="1285920"/>
          </a:xfrm>
          <a:prstGeom prst="rect">
            <a:avLst/>
          </a:prstGeom>
          <a:solidFill>
            <a:srgbClr val="db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 u="sng">
                <a:solidFill>
                  <a:srgbClr val="000000"/>
                </a:solidFill>
                <a:uFillTx/>
                <a:latin typeface="ＭＳ Ｐゴシック"/>
                <a:ea typeface="ＭＳ Ｐゴシック"/>
              </a:rPr>
              <a:t>オフセット官製はがき（宛名面）専用テンプレー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Calibri"/>
              </a:rPr>
              <a:t>薄い青色の点線より内側に入るようにデザイン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用紙サイズや余白の変更はしないで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このボックスはデザイン作成時に削除してかまいません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22:53:30Z</dcterms:created>
  <dc:creator>matsuo-print.com</dc:creator>
  <dc:description/>
  <dc:language>en-US</dc:language>
  <cp:lastModifiedBy>Win10_PC1</cp:lastModifiedBy>
  <dcterms:modified xsi:type="dcterms:W3CDTF">2019-10-25T00:08:15Z</dcterms:modified>
  <cp:revision>14</cp:revision>
  <dc:subject/>
  <dc:title>スライド 1</dc:title>
</cp:coreProperties>
</file>