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6517-1086-4741-98F9-FE64E89F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70AD-2FE7-46A3-95CB-2B1A3657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7771-EB9E-41CA-B240-CF1EAA6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AD5C2-B3E6-404C-9211-41CB52B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416C-37AA-4AD6-B168-46B77D3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99433-5863-4554-805D-2D58721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319EC-B103-48DA-9BF2-3DBA382D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7849-3907-418E-8632-8B9D7A59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60AC5-3AA5-4AA9-900E-4FBF1A7C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795C0-8654-4D3E-9DCB-F5791125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C5CB1-0D4C-404C-B83F-B429EC6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05614-E5C6-42E1-8734-54BD0463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E2094-ADDE-4B1A-B4CD-C8D26CA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2AB03-939B-45DC-91A4-E55D6AB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AB093-1246-44AB-A47D-4C6CF97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7FA08-CA33-4391-9DC6-6FC2437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06A00-9707-4C50-9D22-EA79C405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02954-270E-44FB-8561-88D9A76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E5DD4-774F-412E-90DB-357F2E5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0364-81A5-49B2-8662-9B8D1581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721E6-8125-4CB5-A04C-26E8E81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BA2FF-97A5-4041-8F86-6C36C740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5F4FB-F235-4A38-9253-E1450F3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326C8-0620-4A34-8FD1-D0DC6938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061D7-DC91-42C8-8644-D326B07D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5866C-3748-488D-8660-48B72FBB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AB1E-E875-4A07-B70A-8D8788F8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6BA7D-CB80-484A-AD56-9CFF6B5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FD91-A944-4C5C-BFDA-E5156DD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99489-5313-474E-BCA6-4AAC524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420-5564-4797-94BD-89FD27C1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85B6C-6E89-469B-9881-07AFBD3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CDB1-9BF7-4030-B4D4-D73156F8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70C8-F6D1-4405-902B-2185541C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66454-B6FB-4ED0-91A8-3883C88B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341BE-72A9-4FFA-805A-797D68C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FC3F4-DFD6-45EB-9549-87F58DA9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62795-A41F-4497-979C-C7D1940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C90C0-6AF9-4F87-93BE-D600080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66B69-0E76-439A-8B3A-D2E79A30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16FD5-C727-4D16-AB71-FA571EA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4A2-F653-483F-BE2B-4A4B875B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F6CE0-3B67-4A31-9343-5A323007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1F8A-5211-4F99-9CEC-754EF8F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98A1A-DFE8-4631-95AB-06F05FE9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10338-DED3-48EF-980F-10F80FE0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FCB2C-D767-4697-8A5A-25C547D5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BA7-622A-41DE-BE44-E5FBFF1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F63-5E01-4BD3-B28A-CF7D189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BB5-F516-4B2C-8509-ED4EBA05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D80-F2BE-4DFC-851A-70875E91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A93-895E-4B00-8AC4-A505B04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413-A40E-4765-9CD7-A2ED0BB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AF0-7538-48C8-BB56-A24079D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661-529B-4429-B9A3-54C477A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DD4-51AF-4658-A4A4-C5DD2A02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D26-48DB-4C3A-8844-802DD290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A991-8486-4DB3-AE6A-710F63F7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41B-3287-4708-8AF4-35C09DAC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F32-D5D9-4355-9751-763CF3D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21A-66ED-47DF-8DD1-9EA9546D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7436-61F1-430C-A261-2CBC7742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F52B-BB61-4266-8CC1-B7A4154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2C8E-3034-489E-9FF8-41480EE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B31-54AF-4545-9FC2-BA0ADB4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A83B-D748-4D2D-B25C-FC7BE44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0F8-73DD-40A5-A14C-F82B716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B53-78A4-451E-AEFB-6BCBD502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FA1-4D11-4B58-AB40-B6E21BF4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8F11-F2F0-4111-85A0-47D94BEA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EC77-6DA4-4244-A94A-59A80C1E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971F-8E17-4C9B-9C42-0C889C2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6505-6D61-4CBD-AE92-79BEC09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FB94-CA9E-4EE6-9D4E-04B0072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2AD4-2530-4813-831B-947B757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063B-276E-4F8F-AD95-AF93C1D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517C-96CB-4AB4-B1B2-3135A31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9FD6-9FC5-407A-9FBC-F8D4B53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E196-AED6-472B-9C25-BAA8CB1F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A81E-CA82-4E8D-9569-912F6CC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FF69-C56A-4C15-B6B0-6147C1EE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8736-717E-4694-B112-47B517DD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15C5-9A8E-4046-B378-0760BFB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41DA-8062-4DE8-9B1B-C44C2CB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9333-157B-4DDA-B3F4-9AFE727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1B24-40D0-4C91-B7CC-A16CE27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8253-F65B-4D8A-BF24-E65D0A6A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7CBD-84E3-462E-9E8D-BDF887F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FD20-BFF5-4CB0-8AB0-281B34D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E9DE-D4C9-43F1-8FFA-8587960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C880-6908-41C8-B371-7F971F1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B6D8-BAAB-401A-8639-B03CEB39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E658-6CC8-4339-86F2-AC2F74F6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E77A-11B1-4E7F-AA99-E19B5902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1DAB-BEED-40FE-BB43-88717E7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D78F-5D2D-4D99-BE3A-0B7142D1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37CF-FB5C-4557-9409-7B7F439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4D2B-2838-487E-BD32-76C11AA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EBE5-D0E4-48CE-8D2D-4C65948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B04A-C8EE-4275-8A82-2504A62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FA35-79D8-4F57-9778-7ABA802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FC94-50C1-45D8-A397-60F9E5F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7B09-2260-4138-887F-3093367A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4369-9B0F-4E42-AAE3-3EB3EEA2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9F1B-6DA3-44B3-9A0C-3ED35ECC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1E3D-C19C-4F72-A6F0-8C26D4FC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BBD5-DF53-4DD3-A0FE-06E1CE3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DB45-BA81-4B19-8C10-C949071A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999B-DD72-46CA-AE70-0B18141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39CA8-1D5C-410B-8A4A-5B2D902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8369F-646C-4168-88BA-DFCD347B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26BF2-24E9-4B06-B08D-1C175B2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71A8-854C-4378-86CA-2B50932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15B7-67C6-4B7E-B98C-CF32F2F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AEE0-14DA-458A-B666-2517DB4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AB6F9-BD75-43CE-B034-7A54569F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A059-DD08-4D2A-A555-C357D532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D4F3-A95A-448A-BC5C-B41418E1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D6001-0F46-4266-B343-772004A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6EDD-6DF2-4B8D-8221-B69B808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8112C-4740-4561-97EC-CCC827C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0FB6-3F32-4FC5-8B53-B47A800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13B8-5C47-4106-AE76-32C0BAD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F2EA-ECFA-46E6-BB28-95F57B5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7741-2D84-4786-9073-3171EFC3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DA2C-1AA0-4C61-B047-05214AB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21F0-F344-4401-A635-D782ADE1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550B-9D85-476F-B697-9D145EA3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031C-BD6D-4A9E-A32B-D1A651CA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12C4-D209-4A88-85CE-B0B67BDE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F242-A8C2-4646-B8F8-E1BEF9F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5D42-B1CC-48D4-841D-6F80AA8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6C23BE7-B12E-4E84-8AF5-098F89D220D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E1D6E1F-2E0E-4A5A-9FEE-8151026DEC2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232CEEF-B6C4-4799-AFBF-68623300234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EFFD2CF8-838B-4794-BA2D-5D1799BA833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FEC1A53-8ABC-409A-A72B-BA09F1A68DA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3770B76-A3FA-4A62-923E-CDA21BAD004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BBBB447-6F6B-4F38-8F3F-377C6587CB8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58C6381-4C2C-4674-B759-6784FA23D50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0ECD7E9-45A4-4168-986E-B844CE4602D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CFBB2A4-C4D0-4A21-9BD3-28A2EC38FD4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204"/>
          <p:cNvSpPr/>
          <p:nvPr/>
        </p:nvSpPr>
        <p:spPr>
          <a:xfrm>
            <a:off x="0" y="10800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204"/>
          <p:cNvSpPr/>
          <p:nvPr/>
        </p:nvSpPr>
        <p:spPr>
          <a:xfrm>
            <a:off x="0" y="496872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204"/>
          <p:cNvSpPr/>
          <p:nvPr/>
        </p:nvSpPr>
        <p:spPr>
          <a:xfrm>
            <a:off x="0" y="521964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204"/>
          <p:cNvSpPr/>
          <p:nvPr/>
        </p:nvSpPr>
        <p:spPr>
          <a:xfrm>
            <a:off x="108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204"/>
          <p:cNvSpPr/>
          <p:nvPr/>
        </p:nvSpPr>
        <p:spPr>
          <a:xfrm>
            <a:off x="3492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37CEA23-5790-4DFA-A68A-89AAC51D831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96880" y="1882800"/>
            <a:ext cx="2405160" cy="155880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上下左右のいずれか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1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辺に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10mm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その他の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3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辺にそれぞれ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3mm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の余白が必要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matsuo-print.com</cp:lastModifiedBy>
  <dcterms:modified xsi:type="dcterms:W3CDTF">2018-06-14T08:12:06Z</dcterms:modified>
  <cp:revision>8</cp:revision>
  <dc:subject/>
  <dc:title>スライド 1</dc:title>
</cp:coreProperties>
</file>