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003838" cy="13679488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162028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00000" y="7345440"/>
            <a:ext cx="162028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20112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00000" y="734544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202320" y="734544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5217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378480" y="3201120"/>
            <a:ext cx="5217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856600" y="3201120"/>
            <a:ext cx="5217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00000" y="7345440"/>
            <a:ext cx="5217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6378480" y="7345440"/>
            <a:ext cx="5217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11856600" y="7345440"/>
            <a:ext cx="52171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00000" y="3201120"/>
            <a:ext cx="1620288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1620288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790668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202320" y="3201120"/>
            <a:ext cx="790668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00000" y="545760"/>
            <a:ext cx="16202880" cy="105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02320" y="3201120"/>
            <a:ext cx="790668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734544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7906680" cy="79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202320" y="320112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202320" y="734544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5760"/>
            <a:ext cx="16202880" cy="22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320112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202320" y="3201120"/>
            <a:ext cx="79066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7345440"/>
            <a:ext cx="162028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76"/>
              </a:spcBef>
              <a:buNone/>
              <a:tabLst>
                <a:tab algn="l" pos="1800360"/>
                <a:tab algn="l" pos="3600360"/>
                <a:tab algn="l" pos="5400720"/>
                <a:tab algn="l" pos="7201080"/>
                <a:tab algn="l" pos="9001080"/>
                <a:tab algn="l" pos="108014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6840360"/>
            <a:ext cx="15840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8999640" y="1270080"/>
            <a:ext cx="0" cy="11139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08000" y="1440000"/>
            <a:ext cx="15984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1332000" y="1008000"/>
            <a:ext cx="0" cy="1166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1440000" y="1008000"/>
            <a:ext cx="0" cy="1166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6559280" y="1008000"/>
            <a:ext cx="0" cy="1166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6668720" y="1008000"/>
            <a:ext cx="0" cy="1166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"/>
          <p:cNvSpPr/>
          <p:nvPr/>
        </p:nvSpPr>
        <p:spPr>
          <a:xfrm>
            <a:off x="1008000" y="1332000"/>
            <a:ext cx="15984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"/>
          <p:cNvSpPr/>
          <p:nvPr/>
        </p:nvSpPr>
        <p:spPr>
          <a:xfrm>
            <a:off x="1008000" y="12347640"/>
            <a:ext cx="15984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2239640"/>
            <a:ext cx="15984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1332000" y="1332000"/>
            <a:ext cx="15335280" cy="1101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86"/>
          <p:cNvSpPr/>
          <p:nvPr/>
        </p:nvSpPr>
        <p:spPr>
          <a:xfrm>
            <a:off x="1440000" y="1440000"/>
            <a:ext cx="15119280" cy="10799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04"/>
          <p:cNvSpPr/>
          <p:nvPr/>
        </p:nvSpPr>
        <p:spPr>
          <a:xfrm>
            <a:off x="8999640" y="1332000"/>
            <a:ext cx="0" cy="11015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99"/>
          <p:cNvSpPr/>
          <p:nvPr/>
        </p:nvSpPr>
        <p:spPr>
          <a:xfrm>
            <a:off x="16921080" y="3228840"/>
            <a:ext cx="936720" cy="130824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0"/>
          <p:cNvSpPr/>
          <p:nvPr/>
        </p:nvSpPr>
        <p:spPr>
          <a:xfrm>
            <a:off x="16849800" y="2430360"/>
            <a:ext cx="745920" cy="58104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04"/>
          <p:cNvSpPr/>
          <p:nvPr/>
        </p:nvSpPr>
        <p:spPr>
          <a:xfrm>
            <a:off x="1457280" y="85680"/>
            <a:ext cx="3432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0×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0×3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8418600" y="1052640"/>
            <a:ext cx="115236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2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55"/>
          <p:cNvSpPr/>
          <p:nvPr/>
        </p:nvSpPr>
        <p:spPr>
          <a:xfrm>
            <a:off x="1440000" y="12719160"/>
            <a:ext cx="46749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図 20" descr=""/>
          <p:cNvPicPr/>
          <p:nvPr/>
        </p:nvPicPr>
        <p:blipFill>
          <a:blip r:embed="rId2"/>
          <a:stretch/>
        </p:blipFill>
        <p:spPr>
          <a:xfrm>
            <a:off x="14401800" y="235080"/>
            <a:ext cx="1855800" cy="927000"/>
          </a:xfrm>
          <a:prstGeom prst="rect">
            <a:avLst/>
          </a:prstGeom>
          <a:ln w="0">
            <a:noFill/>
          </a:ln>
        </p:spPr>
      </p:pic>
      <p:sp>
        <p:nvSpPr>
          <p:cNvPr id="19" name="Text Box 74"/>
          <p:cNvSpPr/>
          <p:nvPr/>
        </p:nvSpPr>
        <p:spPr>
          <a:xfrm>
            <a:off x="163440" y="6721560"/>
            <a:ext cx="1152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5T07:25:40Z</dcterms:modified>
  <cp:revision>20</cp:revision>
  <dc:subject/>
  <dc:title>スライド 1</dc:title>
</cp:coreProperties>
</file>