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679488" cy="18003838"/>
  <p:notesSz cx="8596313" cy="12444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718200"/>
            <a:ext cx="123116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000" y="4212720"/>
            <a:ext cx="12311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4000" y="9666360"/>
            <a:ext cx="12311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718200"/>
            <a:ext cx="123116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000" y="4212720"/>
            <a:ext cx="60080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993000" y="4212720"/>
            <a:ext cx="60080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4000" y="9666360"/>
            <a:ext cx="60080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993000" y="9666360"/>
            <a:ext cx="60080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718200"/>
            <a:ext cx="123116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4212720"/>
            <a:ext cx="39639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46680" y="4212720"/>
            <a:ext cx="39639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009000" y="4212720"/>
            <a:ext cx="39639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4000" y="9666360"/>
            <a:ext cx="39639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846680" y="9666360"/>
            <a:ext cx="39639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9009000" y="9666360"/>
            <a:ext cx="39639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000" y="718200"/>
            <a:ext cx="123116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4000" y="4212720"/>
            <a:ext cx="123116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75"/>
              </a:spcBef>
              <a:buNone/>
              <a:tabLst>
                <a:tab algn="l" pos="0"/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718200"/>
            <a:ext cx="123116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4212720"/>
            <a:ext cx="123116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000" y="718200"/>
            <a:ext cx="123116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000" y="4212720"/>
            <a:ext cx="60080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93000" y="4212720"/>
            <a:ext cx="60080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000" y="718200"/>
            <a:ext cx="123116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4000" y="718200"/>
            <a:ext cx="12311640" cy="139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75"/>
              </a:spcBef>
              <a:tabLst>
                <a:tab algn="l" pos="0"/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718200"/>
            <a:ext cx="123116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4212720"/>
            <a:ext cx="60080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000" y="4212720"/>
            <a:ext cx="60080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9666360"/>
            <a:ext cx="60080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000" y="718200"/>
            <a:ext cx="123116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000" y="4212720"/>
            <a:ext cx="60080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993000" y="4212720"/>
            <a:ext cx="60080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93000" y="9666360"/>
            <a:ext cx="60080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718200"/>
            <a:ext cx="123116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000" y="4212720"/>
            <a:ext cx="60080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93000" y="4212720"/>
            <a:ext cx="60080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4000" y="9666360"/>
            <a:ext cx="12311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7000"/>
                <a:tab algn="l" pos="4734000"/>
                <a:tab algn="l" pos="7101000"/>
                <a:tab algn="l" pos="94680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1087560" y="8999640"/>
            <a:ext cx="11503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44"/>
          <p:cNvSpPr/>
          <p:nvPr/>
        </p:nvSpPr>
        <p:spPr>
          <a:xfrm>
            <a:off x="6840360" y="1260360"/>
            <a:ext cx="0" cy="15480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"/>
          <p:cNvSpPr/>
          <p:nvPr/>
        </p:nvSpPr>
        <p:spPr>
          <a:xfrm>
            <a:off x="1008000" y="1440000"/>
            <a:ext cx="1166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1332000" y="1008000"/>
            <a:ext cx="0" cy="15984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7"/>
          <p:cNvSpPr/>
          <p:nvPr/>
        </p:nvSpPr>
        <p:spPr>
          <a:xfrm>
            <a:off x="1440000" y="1008000"/>
            <a:ext cx="0" cy="15984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12239640" y="1008000"/>
            <a:ext cx="0" cy="15984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12347640" y="1008000"/>
            <a:ext cx="0" cy="15984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"/>
          <p:cNvSpPr/>
          <p:nvPr/>
        </p:nvSpPr>
        <p:spPr>
          <a:xfrm>
            <a:off x="1008000" y="1332000"/>
            <a:ext cx="1166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"/>
          <p:cNvSpPr/>
          <p:nvPr/>
        </p:nvSpPr>
        <p:spPr>
          <a:xfrm>
            <a:off x="1008000" y="16668720"/>
            <a:ext cx="1166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"/>
          <p:cNvSpPr/>
          <p:nvPr/>
        </p:nvSpPr>
        <p:spPr>
          <a:xfrm>
            <a:off x="1008000" y="16559280"/>
            <a:ext cx="1166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1332000" y="1332000"/>
            <a:ext cx="11015640" cy="15335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86"/>
          <p:cNvSpPr/>
          <p:nvPr/>
        </p:nvSpPr>
        <p:spPr>
          <a:xfrm>
            <a:off x="1440000" y="1440000"/>
            <a:ext cx="10799640" cy="1511928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204"/>
          <p:cNvSpPr/>
          <p:nvPr/>
        </p:nvSpPr>
        <p:spPr>
          <a:xfrm>
            <a:off x="1332000" y="8999640"/>
            <a:ext cx="11015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99"/>
          <p:cNvSpPr/>
          <p:nvPr/>
        </p:nvSpPr>
        <p:spPr>
          <a:xfrm>
            <a:off x="12574440" y="3203640"/>
            <a:ext cx="943200" cy="1297080"/>
          </a:xfrm>
          <a:prstGeom prst="wedgeRoundRectCallout">
            <a:avLst>
              <a:gd name="adj1" fmla="val -75023"/>
              <a:gd name="adj2" fmla="val -36023"/>
              <a:gd name="adj3" fmla="val 16667"/>
            </a:avLst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フチなし印刷は塗足しが必要ですので、青い線まで必ず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00"/>
          <p:cNvSpPr/>
          <p:nvPr/>
        </p:nvSpPr>
        <p:spPr>
          <a:xfrm>
            <a:off x="12547440" y="2411280"/>
            <a:ext cx="752760" cy="576360"/>
          </a:xfrm>
          <a:prstGeom prst="wedgeRoundRectCallout">
            <a:avLst>
              <a:gd name="adj1" fmla="val -89805"/>
              <a:gd name="adj2" fmla="val -39518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赤い線が仕上がり線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04"/>
          <p:cNvSpPr/>
          <p:nvPr/>
        </p:nvSpPr>
        <p:spPr>
          <a:xfrm>
            <a:off x="1468440" y="85680"/>
            <a:ext cx="3459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just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×42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タ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展開サイズ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0×42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74"/>
          <p:cNvSpPr/>
          <p:nvPr/>
        </p:nvSpPr>
        <p:spPr>
          <a:xfrm>
            <a:off x="6259680" y="1044720"/>
            <a:ext cx="1161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00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155"/>
          <p:cNvSpPr/>
          <p:nvPr/>
        </p:nvSpPr>
        <p:spPr>
          <a:xfrm>
            <a:off x="1633680" y="17210160"/>
            <a:ext cx="471168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フチ無し印刷をご希望の場合は、外側の青い線まで色や写真を配置してください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透過性や半透明、パターンなどは正常に変換出来ない場合があります。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用紙サイズや余白、トンボなどは、変更・移動されないようお願いいた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Text Box 74"/>
          <p:cNvSpPr/>
          <p:nvPr/>
        </p:nvSpPr>
        <p:spPr>
          <a:xfrm>
            <a:off x="311040" y="8869320"/>
            <a:ext cx="1160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420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図 21" descr=""/>
          <p:cNvPicPr/>
          <p:nvPr/>
        </p:nvPicPr>
        <p:blipFill>
          <a:blip r:embed="rId2"/>
          <a:stretch/>
        </p:blipFill>
        <p:spPr>
          <a:xfrm>
            <a:off x="10163160" y="228600"/>
            <a:ext cx="1855800" cy="91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Ex-Image-L</dc:creator>
  <dc:description/>
  <dc:language>en-US</dc:language>
  <cp:lastModifiedBy>matsuo-print.com</cp:lastModifiedBy>
  <dcterms:modified xsi:type="dcterms:W3CDTF">2018-03-15T07:35:39Z</dcterms:modified>
  <cp:revision>23</cp:revision>
  <dc:subject/>
  <dc:title>スライド 1</dc:title>
</cp:coreProperties>
</file>